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5FB5-6D67-4278-8142-471054CF914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öldi vonatkozási rendszer „az egész Föld felszínén minél egyenletesebb eloszlásban kijelölt anyagi pontok, geodéziai főalappontok együttese és a hozzájuk kapcsolt. így a Földhöz lehetőségekig kötött, vele együttforgó geocentrikus koordináta-rendszer, a földi térbeli derékszögű koordináta-rendszer” (Bíró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TRS rendszer az egész Föld felszínén elhelyezkedő pontok( obszervatóriumok, megfigyelő állomások) koordinátái valósítják meg, ezek alkotják a Nemzetközi Földi Vonatkoztatási Keretpontok( International Terrestrial Reference Frame-ITRF) hálózatát (Ádám,200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helyi vontkozási rendszer „koordináta-rendszerét a földfelszín kisebb-nagyobb darabjain( ország, szomszédos országok, földrész) kijelölt anyagi pontokhoz, egyes geodéziai pontokhoz kapcsoljuk” (Bíró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rrás: Busis György,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OV (Budapesti Önálló Vetület)-SZT/Bes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D72 (Hungarian Datum 1972). Ez a rendszer együttesen jelenti a vízszintes alapponthálózatot (EOVA), annak elhelyezését és tájékozását az ellipszoidon, a felvett vetület és paramétereit (EOV), a felvett síkkoordináta rendszert és a méter mértékegysé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Ortométeres magasság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= a tereppontnak a saját függővonalán mért távolsága az alapfelülettől, azaz a geoidtó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Normálmagasság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= a ponton áthaladó szintfelület és az alapszintfelület potenciájának egy nehézségi gyorsulással osztott különbsége (Homoródi L.,196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adapi főalappont magassága: 173.8385 m.A.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Balti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Nadapi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0.67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www.gnssnet.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www.geocalc.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.1-hez. Probléma akkor van, ha az ellenőrző pontokban túl nagy eltéréseket tapasztalunk. Ha a pontsűrítéshez vegyesen kívánunk használni GPS-ből transzformált EOV és eredeti EOV koordinátákat, akkor a 2,3 és 4. alternatíva közül válassz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.2-höz. A lokális transzformációt követően a maradék ellentmondásokat csökkentjük valamilyen interpolációs eljáráss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.3-hoz. Ezt az alternatívát akkor ajánlatos alkalmazni, ha a GPS pontsűrítést földi pontsűrítés követi, újabb EOVA pontok bevonásá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.4-hez. Ebben az alternatívában arra kerül a  hangsúly, hogy a transzformált EOV koordinátákat fogadjuk el véglegesnek. Ez jobb mint az eredeti, de nem szokás követ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ízméteres, méteres, szubméteres, centiméteres, millimét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eodéziai pontosság jelenleg csak relatív helymeghatározással érhető el, vagyis legalább két vagy több vevő szimultán mérésével és az adatok együttes feldolgozásával érhető 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eodéziai pontosság csak fázisméréses vevőkkel érhető 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RTK jelentősége megnőtt az azonnali visszajelzés mia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tatikus pontosabb, a kinematikus gyorsab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gy mérési perióduson belül több vevőt használunk egyidejűl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utonóm előnye a függetlenség, de drágább a szolgáltatásra épülő mérésnél. A döntésnél meghatározó lehet a GNSS szolgáltatás színvonala( kiépítettség, rendelkezésre állás,a referencia adatok köre, adatszolgáltatás módja, adatkommunikáció megoldás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égeredmény HD72(EOV és EOMA) rendszerű koordináták. Nemzeti, lokális vagy valós idejű transzformáci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lappontsűrítés, részletpont-mérés, kitűzés. Ez utóbbinál csak RTK jöhet számítás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tatikus és félkinematikus eljárás pontossága azonosnak vehető, ha a megállásos helyeken ügyelünk az antenna függőlegességére és mozdulatlanságá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inematikus mérés hátránya, hogy biztosítani kell folyamatos jelvételt, minimum 5 műholdra, újrainicializálás még OTF esetében is néhány percig t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őnye a gyorsaság, ami tömeges pontbemérés esetén gazdasági előnyt jelenth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 vektor mérési időtartama 10-30 perc, amely függ a vektor hosszától, a műholdak számától és vevő típusától(L1/L1+L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új pontok koordinátáit ETRF89, ill. 2007 után ETRF2005 térbeli vonatkozási rendszerben kapju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Általában lokális transzformációs paraméterekkel dolgozunk. Célszerű a transzformációba OGPSH pontokon kívül permanens állomásokat és EOV/EOMA pontokat is bevon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m kell saját referencia állomást telepíteni,működtetni és őrizni. Helyette Interneten keresztül a bázisállomás adatai letölthető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mbinálható az előző technológiával úgy, hogy először a munkaterület közepén több permanens állomás adataival levezetünk egy pontot, majd a többi pontnál ezt adott pontként kezeljü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nkafolyam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ázisállomást egy ideális helyre telepítjük, általában nem adott pon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ázis-koordinátának elfogadjuk a pillanatnyi értékeket. Ezzel definiáltunk egy „kvázi WGS84” rendsz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anszformációhoz szükséges a helyi koordináta rendszerben adott pontok bemérése( 4-5 po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Új pontok beméré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ldolgozás folyama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szágos paraméterekkel átszámítjuk a referencia pontot EOV-WGS84 irány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hez kötjük a mért vektorok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új pontokat átszámítjuk a nemzeti rendszerbe WGS-EOV irány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zzel a módszerrel a GNSS technikát vízszintes pontsűrítésre használhatjuk, de csak a referencia pont 10-15 km-es körzeté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mérés előkészítése során mindkét vevőbe az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datrögzítési időt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azonosan kell beállíta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OGPSH pont helyett használhatunk ideiglenes referencia pontot is, de ilyenkor az útvonalon OGPSH pontokat is felkeresü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élkinematikus feldolgozás végeredményeként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csak a megállásos helyek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fontosak számunkra, a többi n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olyamatos esetén minden pont fontos lehet számunk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manens állomás adati közül a mozgó vevőbe beállítot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rögzítési idővel azon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állományokat kell letölte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rögzítési id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eghatározza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zolgáltatás díjá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ontos gazdasági kérd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érés két részből áll öss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cializálás, időtartama:4perc-20másodperc, szoftverfügg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Útvonalmérés előre beállított időközönként, akár másodpercenként, cm pontosság fix megoldás eseté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vi hatótávolsága a transzformációs állandók határai 10-15 k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át rádió használata esetén a hatótávolság nem több 2-3 kilométerné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tótávolság növelhető mobiltelefonnal (GSM adatátvite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nkafolyam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ázisállomást egy ideális helyre telepítjük, általában nem adott pon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ázis-koordinátának elfogadjuk a pillanatnyi értékeket. Ezzel definiáltunk egy „kvázi WGS84” rendsz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lyi koordináta rendszerben adott pontok bemér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zformációs paraméterek helyben történő számítása és beállítása a vezérlő egység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Új pontok bemérése, vagy kitűzé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ényeges előny, hogy nem kell magunknak referencia állomást venni és telepíteni, hanem egy permanens állomás adatait használjuk referenciaké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álózatos RTK előnyei a felhasználó nézőpontjábó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 vevővel végezhető cm pontosságú mé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gyobb biztonság (egy állomás kiesése esetén nem hiúsul meg a méré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gyobb és homogén pontossá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gyobb szabadság (nincs kötve a bázis hatósugaráho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ór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=általában a negyedik ismeretlen. Gyógymód:+1 távolságmé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ion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= ionoszféra késleltető hatása, szabályos hiba. Gyógymód: L1 és L2 frekvencia haszná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trop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=troposzféra hatása függ: a légkör hőmérsékletétől, a légnyomástól és a parciális páranyomástól. Gyógymód: meteorológiai adatok mérése és a javítás számítá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1200" spc="-1" strike="noStrike" baseline="-25000">
                <a:solidFill>
                  <a:srgbClr val="000000"/>
                </a:solidFill>
                <a:latin typeface="Arial"/>
              </a:rPr>
              <a:t>pály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=a műholdak nem pontosan ellipszis alakú pályán keringenek, hanem un. zavart pályagörbe mentén. Gyógymód: a műholdak állandó követése. Ezt a kontroll-követő szolgálat elvégzi és a pálya-korrekciókat a GNSS műholdak kódolt üzenet formájában folyamatosan sugározzák, mintegy 15 percenként frissüln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fázistávolság minden hold esetében tartalmaz egy ismeretlen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fázis-többértelműséget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(az ismeretlen ciklusok számát a mérés kezdeti időpontjában), amit csak az adatfeldolgozás során lehet meghatároz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laprendsze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műholdak rendszere azt a célt szolgálja, hogy „a földkerekség bármely pontján, bármely időpontban legalább négy műhold legyen mérésre alkalmas helyzetben” (Ádám,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ontroll követő állomások feladata, a műholdak üzemszerű követése, azok pályaadatainak és órakorrekcióinak számítása és feljuttatá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merikai GP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(Global Positioning System) alaprends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GPS hivatalosan duális (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atonai és polgári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) rendszer,de a katonák felügyelete alatt á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94-ig 24 db műholdat állítottak pályára,az Egyenlítő síkjával 55 fokos szögben 6 db ellipszis-pályán, pályánként 4 db műhold, 12 órás keringési idővel, mintegy 20 000 km magasság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nden GPS műhold ugyanazt a két vivőfrekvenciát állítja elő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1- f1= 1575.42 MHz, Lambda1= 19.03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2-f2=1227.60 MHz, Lambda2= 24.4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L1 jelet a C/A és P kóddal, az L2 jelet csak P kóddal moduláljá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C/A kód szabad hozzáférésű, a P titk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civilek számára lehetséges mérések: L1 vivőjelen C/A kódmérés és mindkét frekvencián L1 és  L2 fázismér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 GPS-modernizációt megkezdté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C/A kódot az L2 vivőjelen is alkalmazni fogják, ennek jele: L2C (20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Új kódot vezetnek be az L1 és L2 frekvencián tisztán katonai célra (Minket nem ér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Új vivőjelet vezetnek be polgári célra, amelynek jele: L5 (2008-20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GPS modernizáció után polgári célra négyféle kódmérés lesz lehetséges: L1C/A, L2C, L51, L5Q (20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orosz GLONAS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alaprends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álasz az amerikai rendszerre, ez is duális (katonai és polgári) rendeltetés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995-ig 24 db műholdat állítottak pályára,az Egyenlítő síkjával 64.8 fokos szögben 3 db ellipszis-pályán, pályánként 8 db műhold, 11óra15 perces keringési idővel, mintegy 19 000 km magasság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GLONASS műholdak mindegyike ugyan azt kódot követi, de más-más frekvenciá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GLONASS rendszerideje nem a GPS idő, hanem UTC idő moszkvai időzóna sze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onatkozási rendszere sem WGS84, hanem a PZ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GLONASS-modernizáció is folyamatban v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újbóli alapkiépítés elérése 18-ról 24-re( 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-L1 vivőjel mellé L2 és L3 (2007-20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európai GALILEO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alaprendsz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sztán polgári rendszer, 30 műholdból fog állni, ebből 3 tartalék. Az első műholdat 2005-ben állították pályára, teljes kiépítése 2012-re várhat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gyenlítő síkjával 56 fokos szögben 3 db ellipszis-pályán, pályánként 9 db műhold, 14 órás keringési idővel, mintegy 23 000 km magasság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tervezett frekvenciák száma: 4 és jelek száma: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GALILEO öt tervezett szolgáltatá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ílt szolgáltatás, bárki számára ingyenesen hozzáférhető, 6m körüli abszolút pontosság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Életvédelmi szolgáltatás, elsősorban a közlekedés számára fenntartott navigációs szolgáltat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ereskedelmi szolgáltatás,nagypontosságú, 2 külön frekvencián csak a regisztrált felhasználóknak, ide sorolhatók a geodéziai pontosságot és a fázismérést igénylő felhasználó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zbiztonsági szolgáltatások, rendőrség,határőrség, vámőrség és biztonsági szolgálatok részére, titkosított,engedélyhez kötö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Életbiztonsági és mentő szolgáltat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ínai COMPASS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avigációs rendszer kiépítése is 2012 körül várhat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iegészítő rendszer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alaprendszer infrastruktúrájának is nevezik. Olyan szolgáltatások gyűjteménye, amelyek növelik az alaprendszer pontosságát, integritását( adatok sértetlenségét), biztonságát és gazdaságosság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űholdas alapú kiegészítő rendszere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zös jellemzőjük, hogy geoszinkron( földdel együtt forgó) pályán lévő holdak továbbítják a távolság-korrekciók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orrekciók meghatározásához permanens állomáshálózatra, feldolgozó központra, adatfeljuttató állomásra és távközlési műholdakra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gy-egy geoszinkron műhold vételi körzete csak meghatározott területre terjed ki, így regionális kiegészítő rendszerek jöttek létre: EGNOS,WAAS,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urópai EGNOS 34 követő és 4 vezérlő állomást, 3 geoszinkron műholdat foglal magáb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ódtávolság-korrekcióval vízszintesen 1-2m, magasságilag 2-4m pontosság is elérhet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agyarországról az EGNOS műholdak viszonylag alacsony magassági szög alatt észlelhetők, így a jelvétel takart környezetben gyakran korlátozo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Omnistar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az egész világot behálózza, fizetős, 102 állomás, 6 geoszinkron műh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peciális dekóder vagy vevő, méteres pontossá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Földi kiegészítő rendszere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ényege szintén egy folyamatosan üzemelő (permanens) állomáshálózat, ahol az adatokat egy feldolgozó központ gyűjti, majd földi kommunikációs csatornákon továbbítja a felhasználók fel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GS 1994, Lépre jöttében a magyar származású Müller Iván professzor kiemelkedő kezdeményező szerepe vo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GS permanens állomáshálózata az egész földkerekséget lefedi, mintegy 350 állomásból á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GS adatok szabad és ingyenes hozzáférésűek. A honlap címe: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http://igscb.jpl.nas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EPN (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UREF Permanent Network) európai kontinens permanens állomáshálóz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006 végére mintegy 200 állom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PN adatai is nyilvánosak: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www.epncb.oma.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levezett koordináták pontossága vízszintes értelemben 1-3 mm, magassági értelemben 5-6 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nden héten új koordináták számítása ITRS és ETRS89 vonatkozási rendszerek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agyarországi aktív hálózatok: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GNSSnet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(állami) és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Geotrade GNS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(kereskedelm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GNSSnet szolgáltatásai a GNSS Szolgáltató Központ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www.gnssnet.hu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honlapon olvasható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Geotrade GNSS szolgáltatásai elérhetők a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www.geotade.hu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honla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ülönbséget kell tenni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ódméré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 és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fázisméré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i adatok között. A kódmérés térinformatikai célú, méteres pontosságú alkalmazásokhoz, DGPS módszerekhez  szükségesek, a fázismérések a geodéziai célú, cm-es pontosságú alkalmazásokho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egkülönböztetünk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utófeldolgozá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céljára szolgáló adatokat és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valós idejű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adatszolgáltatá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valós idejű adatok lehetnek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egy állomásr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vonatkozók, vagy több állomás adataiból előállított korrekciók, amelyek a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hálózati RTK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valamelyik koncepcióját támogatják(Busics és Horváth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9B4-7789-4A36-84B7-B28A73A4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5CA-F1EB-4534-9055-07028D36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823-9C6E-4C38-AA0E-406C5391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7BC-0D4A-4694-A8E7-603D6413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203-3B59-475C-8DFC-DBF88AB4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C40-217B-4A91-AC7C-AC95ACB2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3CE-4F68-401A-A2B7-D1C3E15D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ADD-29EA-41F8-95F3-B494ED0A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69F-386B-4C9E-9098-49FF9E2F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3AB-0D8D-4237-A42D-32337A29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D86-667B-4C52-9E17-CC9A849C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B83-010C-4590-AF69-0A66493A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1ECC-C1E7-4169-B0BB-66679F924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38240"/>
            <a:ext cx="9325080" cy="7123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GNSS a geodéziá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Varga A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JF Műszaki Fakultás,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43000" y="1251000"/>
            <a:ext cx="6858000" cy="4354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99000" y="685800"/>
            <a:ext cx="52207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bázisos RTK lefedettség 2008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73680" y="228600"/>
            <a:ext cx="13492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NSS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43000" y="1251000"/>
            <a:ext cx="6858000" cy="4354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205360" y="609480"/>
            <a:ext cx="425736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álózati lefedettség 2008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43440" y="152280"/>
            <a:ext cx="14097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NSS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öldi vonatkozási rendsz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zetkö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TR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International Terrestrial Reference System) Polgá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WGS84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World Geodetic System) Katon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két rendszer közötti eltérés néhány centiméter, ezért gyakorlati felhasználás szempontjából azonosnak tekinthető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WGS84 egy vonatkozási ellipszoidot is jelent, így a földi pontok koordinátái térbeli derékszögű koordinátákkal (XYZ) és ellipszoidi felületi koordinátákkal (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Φλ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h) egyaránt megadható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uróp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TRS89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European Terrestrial Reference System 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TRS89=ITRF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re nagyobb eltérés, mert az európai tábla az ITRS-hez viszonyítva minegy 2-3 cm/év sebességgel ék-i irányban mozo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URE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European Reference Fram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urópai GPS háló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onatkozási rendszere az ETRS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gyarország 1991-ben csatlakozott 5 pontt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érbeli vonatkozási rendszer Magyarorszá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GP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Országos GPS Hálóz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GPSH1991 24 pontból álló kerethálózat, kvázi WGS84 vonatkozási rendszer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OGPSH1995 1153 pont, ETRF92 rendszerben. Eltérés az előzőtől m-es nagyságrendű, Az OGPSH hivatalos adatai 2007.10.24-ig voltak ebben a rendszerb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OGPSH2007 2007.10.24-én lépett életbe. Az összes aktív-és keretpont új koordinátát kapott, ETRF2005 európai vonatkozási rendszerben. 5mm alatti kerthi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12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tleírás OGPSH1995/ETRF1992 rendszer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87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tleírás OGPSH2007/ETRF2005 rendszer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9994" t="9060" r="586" b="65055"/>
          <a:stretch/>
        </p:blipFill>
        <p:spPr>
          <a:xfrm>
            <a:off x="1547640" y="1268280"/>
            <a:ext cx="5472360" cy="2241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15948" t="51869" r="12485" b="22171"/>
          <a:stretch/>
        </p:blipFill>
        <p:spPr>
          <a:xfrm>
            <a:off x="2124000" y="4149720"/>
            <a:ext cx="4680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i vízszintes vonatkozási rendszerek (2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8229600" cy="5273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ö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pfelü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tü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ppont-hálóz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rdináta rends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tület nélküli rends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3-1857.évi felsőrendű hálóz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y-i tájolású, öles ko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sel ellipszoid és a régi Gauss-gö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apesti sztereografikus vetületi rends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0-1913 között létesített „régi” felsőrendű hálóz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y-i tájolású, öles és méteres koor.(a katonai eltolt 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K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ching-féle ferdetengelyű érintő hengervetület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GG67 ellipszoid és az új Gauss-gö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detengelyű redukált hengervetület: E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8-1972 létesített új hálózat:EOVA ill.FA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k-i tájolású, méteres eltolt ko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2/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2/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aszovszkij ellipsz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uss-Krüger vetület: G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.hálózat, ellipszoidi koordináták jelölése:FA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k-i tájolású, méteres eltolt ko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i magassági vonatkozási rendszerek (1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162080"/>
                <a:gridCol w="1152360"/>
                <a:gridCol w="3600720"/>
                <a:gridCol w="1008000"/>
                <a:gridCol w="130644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neve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pfelü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pponthálóz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psz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sá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on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3-1913 között a Bécsi Katonai Földrajzi Intézet által mért szintezési hálóz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i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omét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1-1944 között mért felsőrendű szintezési hálóz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a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omét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efy-fé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8-1964 között mért felsőrendű szintezési hálóz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omét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8-tól mért felsőrendű hálózat, K pontokkal kiegészítve, neve: E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magassá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2280" y="1447920"/>
            <a:ext cx="87631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Cefrézési tanács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isüsti gyümölcspálinka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a különleges minőségével az ínyencek és nem az alkoholisták kedvelt italfélesége. Aki ismeri, vagy szeretné megismerni ezt a rendkívüli italt, az készítsen cefrét az alábbi tanácsok szer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Csak érett, egészséges gyümölcsöt cefrézzünk!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Penészes, rothadt, romlásnak indult gyümölcs erjesztésével ne foglalkozzunk, mert a pálinka dohos szagú és ízű lesz. Ez a hiba már utólag nem javítható! Kerüljük az éretlen gyümölcs cefrézését is, mert ebből csak kis mennyiségű és gyenge aromájú pálinka nyerhető. Azt a hullott gyümölcsöt szokás pálinkafőzésre felhasználni, amit az asztalra már nem teszünk, de még nem roh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 cefrézendő gyümölcsöt mossuk meg!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A gyümölcs felületén lévő baktériumok hibás erjedést okozhatnak, a növényvédő szer-maradványok, pedig akadályozzák a cefre erjedését. Különösen fontos a földről fölszedett gyümölcs alapos mosása, mert a talajbaktériumok mérgező anyagot, akroleint termelnek. Az ilyen pálinka, szúrós szagú, csípős ízű lesz, mérgező hatása miatt nem fogyaszthat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 szármaradványokat távolítsuk el!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Különösen a cseresznye és a meggy esetén fontos, mert kellemetlen, fanyar mellékízt okoz a párlatb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 magokat is távolítsuk el!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Különösen a kajszi- és őszibarack magját távolítsuk el, mert ezek magbeléből mérgező ciánhidrogén szabadul fel. A ciános pálinka fogyasztása életveszélyes! A magzamat kialakítására azonban, maximum 50 dkg /hl összetört magot adagolunk a cefréhe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z előkészített gyümölcsöt minél apróbbra daraboljuk fel, ill. zúzzuk!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z aprítás, zúzás célja a sejtfalak szétroncsolása, feltárása, hogy a cukortartalmú lé az élesztők számára hozzáférhető legyen. A kemény húsú gyümölcsöket (alma) darabolás előtt célszerű forrásig melegíteni, majd hűlni hagyn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 cefretároló edényeket használat előtt alaposan tisztítsuk ki!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Ásványolajos, kátrányos, benzines, növény-védőszeres vagy vegyszerrel szennyezett edények cefre tárolására nem használható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 cefrét minden esetben oltsuk be sütőélesztővel!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 gyümölcs felületén található vadélesztők a spontán erjedést lassan, vontatottan indítják be. Ezért jobb módszer, ha irányított cefrézést végzünk. 100 liter cefréhez 2-5 dkg élesztőt 2-3 liter langyos vízben iszapoljunk fel, és keverés közben öntsük a cefréhez. Ilyen módon tiszta és gyors erjedés érhető 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Erjedés ideje alatt a cefrét fertőzéstől, levegőtől védeni kell!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Erre a célra kiválóan alkalmas a cefre felszínére borított műanyag fólia. Biztosítani kell a fejlődő gázok szabad távozását. A főerjedés közben a cefrén laza szerkezetű „bunda” képződik, amelyben a fertőzést okozó baktériumok könnyen megtelepednek. Ezt elkerülhetjük, ha a „bundát” naponta többször visszanyomjuk a cefre felszíne alá. Az erjedés befejeződött, ha megszűnik a gázképződés, a cefre már nem édes, a „bunda” lesüllyedt a folyadékb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 kierjedt cefrét kifőzésig légmentesen zárjuk le és hűvös helyen tároljuk!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A kierjedt cefre lefőzéséről mielőbb gondoskodjuk, mert a cefre, állás közben gyorsan fertőződik, alkoholtartalma pedig a párolgás következtében csökk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9760" y="5943600"/>
            <a:ext cx="503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hu-HU" sz="4000" spc="-1" strike="noStrike">
                <a:solidFill>
                  <a:srgbClr val="333399"/>
                </a:solidFill>
                <a:latin typeface="Arial"/>
              </a:rPr>
              <a:t>ége az első részn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1720" y="609480"/>
            <a:ext cx="57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öszönöm a figyelmü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867280" y="2637000"/>
            <a:ext cx="1944720" cy="19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déziai célú transzformációs megold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étparaméte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kális transzformáció15-21 km átmérőjű munkaterüle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átrányo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nkaterületenként mindig új és új transzformálási paraméterkészlet számítását igény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mérnöktől nagy figyelmet igényel a megfelelő paraméterek beírása és beállítása(konfigurálá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gyobb munkaterület estén transzformáció övezetek kijelölése. (pl. autópálya építé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z utóbbi esetben kezelni kell, hogy melyik pont melyik övezethez tartoz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Ellenőrzé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K mérést ill. kitűzést ismert pontokon való méréssel kezdjü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hetőség szerint legyen vízszintes és  magassági pont 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0" y="1197000"/>
            <a:ext cx="194472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4005360"/>
            <a:ext cx="194472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1844640"/>
            <a:ext cx="14256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48428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4720" y="270828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08720" y="220500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75640" y="2708280"/>
            <a:ext cx="14256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342900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77080" y="342900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24720" y="321300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16720" y="4508640"/>
            <a:ext cx="142920" cy="9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08720" y="551664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24360" y="5589720"/>
            <a:ext cx="142920" cy="9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88000" y="5229360"/>
            <a:ext cx="142920" cy="9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51640" y="472428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1341360"/>
            <a:ext cx="792000" cy="4824360"/>
          </a:xfrm>
          <a:custGeom>
            <a:avLst/>
            <a:gdLst/>
            <a:ahLst/>
            <a:rect l="l" t="t" r="r" b="b"/>
            <a:pathLst>
              <a:path w="499" h="3039">
                <a:moveTo>
                  <a:pt x="499" y="0"/>
                </a:moveTo>
                <a:cubicBezTo>
                  <a:pt x="355" y="155"/>
                  <a:pt x="212" y="310"/>
                  <a:pt x="137" y="453"/>
                </a:cubicBezTo>
                <a:cubicBezTo>
                  <a:pt x="62" y="596"/>
                  <a:pt x="8" y="717"/>
                  <a:pt x="46" y="861"/>
                </a:cubicBezTo>
                <a:cubicBezTo>
                  <a:pt x="84" y="1005"/>
                  <a:pt x="310" y="1179"/>
                  <a:pt x="363" y="1315"/>
                </a:cubicBezTo>
                <a:cubicBezTo>
                  <a:pt x="416" y="1451"/>
                  <a:pt x="378" y="1557"/>
                  <a:pt x="363" y="1678"/>
                </a:cubicBezTo>
                <a:cubicBezTo>
                  <a:pt x="348" y="1799"/>
                  <a:pt x="311" y="1867"/>
                  <a:pt x="273" y="2041"/>
                </a:cubicBezTo>
                <a:cubicBezTo>
                  <a:pt x="235" y="2215"/>
                  <a:pt x="182" y="2555"/>
                  <a:pt x="137" y="2721"/>
                </a:cubicBezTo>
                <a:cubicBezTo>
                  <a:pt x="92" y="2887"/>
                  <a:pt x="30" y="3016"/>
                  <a:pt x="0" y="3039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84720" y="2276640"/>
            <a:ext cx="1944720" cy="19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esősugaras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oftver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HT 4.1 (EHT)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FÖ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ontok adatbázisa: az összes OGPSH 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ereső sugár 2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imum 4 maximum 8 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3300"/>
                </a:solidFill>
                <a:latin typeface="Arial"/>
              </a:rPr>
              <a:t>Figyelem!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z OGPSH pontoknak kétféle koordinátája is van, ezért EHT-ból is kettő v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eoCa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keresősugár tetszőle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közös pontok száma is tetszőle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TÜ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ME, kereső sugár nin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den rendszerből minden rendszer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WGS84 átszámítás országos paraméter készlett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Ezek a szoftverek az RTK-módszerekhez nem való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1413000"/>
            <a:ext cx="142560" cy="9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2000" y="2565360"/>
            <a:ext cx="14256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2720" y="155736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4720" y="2276640"/>
            <a:ext cx="142920" cy="9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3789360"/>
            <a:ext cx="14256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12000" y="2924280"/>
            <a:ext cx="142920" cy="9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88000" y="436572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96360" y="3860640"/>
            <a:ext cx="14256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08720" y="314172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43640" y="3213000"/>
            <a:ext cx="142920" cy="92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59640" y="1341360"/>
            <a:ext cx="792000" cy="4824360"/>
          </a:xfrm>
          <a:custGeom>
            <a:avLst/>
            <a:gdLst/>
            <a:ahLst/>
            <a:rect l="l" t="t" r="r" b="b"/>
            <a:pathLst>
              <a:path w="499" h="3039">
                <a:moveTo>
                  <a:pt x="499" y="0"/>
                </a:moveTo>
                <a:cubicBezTo>
                  <a:pt x="355" y="155"/>
                  <a:pt x="212" y="310"/>
                  <a:pt x="137" y="453"/>
                </a:cubicBezTo>
                <a:cubicBezTo>
                  <a:pt x="62" y="596"/>
                  <a:pt x="8" y="717"/>
                  <a:pt x="46" y="861"/>
                </a:cubicBezTo>
                <a:cubicBezTo>
                  <a:pt x="84" y="1005"/>
                  <a:pt x="310" y="1179"/>
                  <a:pt x="363" y="1315"/>
                </a:cubicBezTo>
                <a:cubicBezTo>
                  <a:pt x="416" y="1451"/>
                  <a:pt x="378" y="1557"/>
                  <a:pt x="363" y="1678"/>
                </a:cubicBezTo>
                <a:cubicBezTo>
                  <a:pt x="348" y="1799"/>
                  <a:pt x="311" y="1867"/>
                  <a:pt x="273" y="2041"/>
                </a:cubicBezTo>
                <a:cubicBezTo>
                  <a:pt x="235" y="2215"/>
                  <a:pt x="182" y="2555"/>
                  <a:pt x="137" y="2721"/>
                </a:cubicBezTo>
                <a:cubicBezTo>
                  <a:pt x="92" y="2887"/>
                  <a:pt x="30" y="3016"/>
                  <a:pt x="0" y="3039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11640" y="3284640"/>
            <a:ext cx="10810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43640" y="3429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talomjegyzé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Arial"/>
              </a:rPr>
              <a:t>Első ré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NSS a</a:t>
            </a:r>
            <a:r>
              <a:rPr b="0" lang="hu-HU" sz="2800" spc="-1" strike="noStrike">
                <a:solidFill>
                  <a:srgbClr val="333399"/>
                </a:solidFill>
                <a:latin typeface="Arial"/>
              </a:rPr>
              <a:t>lap-és kiegészítő rendszerek(3-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Arial"/>
              </a:rPr>
              <a:t>Földi vonatkozási rendszerek(11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Második ré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Transzformációk (17-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Geodéziai célú GNSS technológiák(22-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étlépcsős transzformálási eljá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elv: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Előzetes koordináták számítás minden 5x5 km-es rácspontra, „országos” paraméterekk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Végleges koordináták számítása minden 5x5 km-es rácspontra lokális transzformációval (EHT)</a:t>
            </a:r>
            <a:r>
              <a:rPr b="0" lang="hu-HU" sz="1400" spc="-1" strike="noStrike" baseline="30000">
                <a:solidFill>
                  <a:srgbClr val="333399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Koordináta-különbségek  (dy,dx,dz) számítása és tárolása minden rácspon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00"/>
                </a:solidFill>
                <a:latin typeface="Arial"/>
              </a:rPr>
              <a:t>Új pont előzetes koordinátáinak meghatározása 1. pont szeri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00"/>
                </a:solidFill>
                <a:latin typeface="Arial"/>
              </a:rPr>
              <a:t>Javítás számítása valamilyen interpolációs eljárással (egyszerű közép, súlyozott közép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00"/>
                </a:solidFill>
                <a:latin typeface="Arial"/>
              </a:rPr>
              <a:t>A végleges érték= előzetes érték+javí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TEL transzformációs szoft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FÖMI KGO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TK terepi transzformációs eljár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éréssel összhangban automatikusan működ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532720" y="292428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35840" y="443088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08360" y="306864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PSH p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8560" y="2565360"/>
            <a:ext cx="13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5 km rácsp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48360" y="4221000"/>
            <a:ext cx="122400" cy="122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08720" y="41497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Új p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364000" y="2852640"/>
            <a:ext cx="3166920" cy="2305080"/>
            <a:chOff x="5364000" y="2852640"/>
            <a:chExt cx="3166920" cy="2305080"/>
          </a:xfrm>
        </p:grpSpPr>
        <p:sp>
          <p:nvSpPr>
            <p:cNvPr id="281" name=""/>
            <p:cNvSpPr/>
            <p:nvPr/>
          </p:nvSpPr>
          <p:spPr>
            <a:xfrm>
              <a:off x="5364000" y="292572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11640" y="292572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9280" y="292572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06920" y="292572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56360" y="292572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67280" y="2997360"/>
              <a:ext cx="142560" cy="91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22560" y="4437000"/>
              <a:ext cx="142920" cy="9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03640" y="3429000"/>
              <a:ext cx="142920" cy="9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99280" y="3068640"/>
              <a:ext cx="142920" cy="9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882560" y="4797360"/>
              <a:ext cx="144360" cy="716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4000" y="292572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64000" y="350064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64000" y="407664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64000" y="458172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64000" y="5157720"/>
              <a:ext cx="31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59280" y="4076640"/>
              <a:ext cx="289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658920" y="429264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90920" y="4076640"/>
              <a:ext cx="215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19640" y="4292640"/>
              <a:ext cx="287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882560" y="4005360"/>
              <a:ext cx="144360" cy="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882560" y="3429000"/>
              <a:ext cx="144360" cy="7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234920" y="3429000"/>
              <a:ext cx="144360" cy="7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6587280" y="3429000"/>
              <a:ext cx="144360" cy="7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940000" y="3429000"/>
              <a:ext cx="144720" cy="7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7280" y="4005360"/>
              <a:ext cx="144360" cy="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234920" y="4005360"/>
              <a:ext cx="144360" cy="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882560" y="4581720"/>
              <a:ext cx="144360" cy="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234920" y="4508640"/>
              <a:ext cx="144360" cy="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940000" y="4005360"/>
              <a:ext cx="144720" cy="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587280" y="2852640"/>
              <a:ext cx="144360" cy="7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940000" y="4508640"/>
              <a:ext cx="144720" cy="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587280" y="4508640"/>
              <a:ext cx="144360" cy="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234920" y="2852640"/>
              <a:ext cx="144360" cy="71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ítások RTCM üzenet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397044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zabványosított interpoláció sorá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TCM 3.1üzenetkén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továbbított 1-16 rácspont és I.-IX cella értelmezé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után az R beküldi közelítő helyzetét, RTCM üzenet formájában visszakapjuk az előre definiált rácspontok közül az R körüli 16 pont javítása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00"/>
                </a:solidFill>
                <a:latin typeface="Arial"/>
              </a:rPr>
              <a:t>Szabványosított interpoláció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ineá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égyze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03640" y="1557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03640" y="1916280"/>
            <a:ext cx="129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03640" y="2276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3640" y="2708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0364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3564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6728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00720" y="15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3800" y="13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65440" y="13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7440" y="13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27640" y="1341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933800" y="206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29080" y="170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97440" y="170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65440" y="170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65440" y="206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57800" y="2492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33800" y="170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97440" y="2492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65440" y="2492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33800" y="2492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9080" y="206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97440" y="206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78520" y="16286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10160" y="162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3440" y="16286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78520" y="198900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10520" y="198900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13800" y="198900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8520" y="234936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10160" y="234936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2160" y="2349360"/>
            <a:ext cx="2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581800" y="1916280"/>
            <a:ext cx="287280" cy="246240"/>
            <a:chOff x="5581800" y="1916280"/>
            <a:chExt cx="287280" cy="246240"/>
          </a:xfrm>
        </p:grpSpPr>
        <p:sp>
          <p:nvSpPr>
            <p:cNvPr id="350" name=""/>
            <p:cNvSpPr/>
            <p:nvPr/>
          </p:nvSpPr>
          <p:spPr>
            <a:xfrm>
              <a:off x="5653080" y="191628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81800" y="19162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zformáció alternatív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0200" y="2990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4920" y="1125360"/>
          <a:ext cx="9109080" cy="5056200"/>
        </p:xfrm>
        <a:graphic>
          <a:graphicData uri="http://schemas.openxmlformats.org/drawingml/2006/table">
            <a:tbl>
              <a:tblPr/>
              <a:tblGrid>
                <a:gridCol w="501480"/>
                <a:gridCol w="1451160"/>
                <a:gridCol w="1450800"/>
                <a:gridCol w="1285920"/>
                <a:gridCol w="1339920"/>
                <a:gridCol w="1479600"/>
                <a:gridCol w="160020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induló ad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zformá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S mér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zformá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zformá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olál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eszke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adott pontok és a tr. közös pontja is csak OGPSH pont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beli vektorok kiegyenlítése WGS84 rendszer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á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Z&gt;yx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GS&gt;E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felel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talában ellenőrzésre ajánlo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xM&gt;yxM</a:t>
                      </a:r>
                      <a:r>
                        <a:rPr b="0" lang="hu-HU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javíto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edeti EOV koordinát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adott pontok és a tr. közös pontja is vegyesen EOVA és OGPSH pont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ká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xM&gt;XY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OV&gt;WG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edeti EOV koordinát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adott pontok és a tr. közös pontja is csak OGPSH pont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j kvázi EOV koordinát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déziai célú GNSS technológiák csoportosításának szempont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ossági igény (1-5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zolút és relatív helymeghatározás (relatí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ódmérés és fázismérés (fázismér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Valós idejű és utólagos feldolgo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kus és kinematikus mó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bázisos és több-bázisos megol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nóm és szolgáltatásra épülő mé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zformációs megol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meghatározás cé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Utófeldolgozásos technológi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Stati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ors statikus (20 km-nél rövidebb vektor, észlelési idő: 10-30 per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áris vagy több vevő esetén hálózatszerű elrend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llesz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ak OGPS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ak permanens állom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ak EOV/EOM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gyes pontokk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3973680"/>
            <a:ext cx="746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4343400"/>
            <a:ext cx="7521480" cy="221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Kinemati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 km-nél rövidebb vektor, észlelési idő: 1-30 mp, OTF( On-The-Fly) inicializálás, folyamatos jelvétel, azonos adatrögzítési időköz a bázis és a rover vevőb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élkinematikus (Stop-and-Go – S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lyamatos kinematikus (True Kinematic Survey – T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820440" y="468360"/>
            <a:ext cx="183888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lmagyará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55000" y="1066680"/>
            <a:ext cx="10159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ű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06600" y="1535040"/>
            <a:ext cx="4260600" cy="1618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 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OVA 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PSH 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s állom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Új 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5400" y="3733920"/>
            <a:ext cx="3624840" cy="1618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érés típ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vigáció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ors stat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op an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76520" y="556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46840" y="5486400"/>
            <a:ext cx="52311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olgozás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ós idejű, utól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46840" y="5943600"/>
            <a:ext cx="586836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zformáció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zeti,lokális,valós idej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05920" y="28954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10280" y="2057400"/>
            <a:ext cx="304920" cy="228600"/>
          </a:xfrm>
          <a:custGeom>
            <a:avLst/>
            <a:gdLst>
              <a:gd name="textAreaLeft" fmla="*/ 125640 w 304920"/>
              <a:gd name="textAreaRight" fmla="*/ 179280 w 30492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1828800"/>
            <a:ext cx="29520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638680" y="1219320"/>
            <a:ext cx="685440" cy="152280"/>
            <a:chOff x="5638680" y="1219320"/>
            <a:chExt cx="685440" cy="152280"/>
          </a:xfrm>
        </p:grpSpPr>
        <p:sp>
          <p:nvSpPr>
            <p:cNvPr id="372" name=""/>
            <p:cNvSpPr/>
            <p:nvPr/>
          </p:nvSpPr>
          <p:spPr>
            <a:xfrm>
              <a:off x="5924160" y="1219320"/>
              <a:ext cx="11412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95520" y="1219320"/>
              <a:ext cx="22860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38680" y="1219320"/>
              <a:ext cx="22824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315200" y="2362320"/>
            <a:ext cx="533520" cy="533160"/>
            <a:chOff x="7315200" y="2362320"/>
            <a:chExt cx="533520" cy="533160"/>
          </a:xfrm>
        </p:grpSpPr>
        <p:sp>
          <p:nvSpPr>
            <p:cNvPr id="376" name=""/>
            <p:cNvSpPr/>
            <p:nvPr/>
          </p:nvSpPr>
          <p:spPr>
            <a:xfrm>
              <a:off x="7361280" y="2704320"/>
              <a:ext cx="464040" cy="191160"/>
            </a:xfrm>
            <a:custGeom>
              <a:avLst/>
              <a:gdLst>
                <a:gd name="textAreaLeft" fmla="*/ 191160 w 464040"/>
                <a:gd name="textAreaRight" fmla="*/ 272880 w 464040"/>
                <a:gd name="textAreaTop" fmla="*/ 78840 h 191160"/>
                <a:gd name="textAreaBottom" fmla="*/ 11232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15200" y="2362320"/>
              <a:ext cx="533520" cy="191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92760" y="2559600"/>
              <a:ext cx="0" cy="13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324480" y="4267080"/>
            <a:ext cx="304560" cy="456840"/>
            <a:chOff x="6324480" y="4267080"/>
            <a:chExt cx="304560" cy="456840"/>
          </a:xfrm>
        </p:grpSpPr>
        <p:sp>
          <p:nvSpPr>
            <p:cNvPr id="380" name=""/>
            <p:cNvSpPr/>
            <p:nvPr/>
          </p:nvSpPr>
          <p:spPr>
            <a:xfrm flipV="1">
              <a:off x="6324480" y="4352760"/>
              <a:ext cx="142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96200" y="435852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85320" y="4267080"/>
              <a:ext cx="19944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086600" y="4114800"/>
            <a:ext cx="228600" cy="990720"/>
            <a:chOff x="7086600" y="4114800"/>
            <a:chExt cx="228600" cy="990720"/>
          </a:xfrm>
        </p:grpSpPr>
        <p:sp>
          <p:nvSpPr>
            <p:cNvPr id="384" name=""/>
            <p:cNvSpPr/>
            <p:nvPr/>
          </p:nvSpPr>
          <p:spPr>
            <a:xfrm>
              <a:off x="7086600" y="4114800"/>
              <a:ext cx="152640" cy="90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62920" y="4205520"/>
              <a:ext cx="0" cy="900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62920" y="4724640"/>
              <a:ext cx="15228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772400" y="4724280"/>
            <a:ext cx="304920" cy="609840"/>
            <a:chOff x="7772400" y="4724280"/>
            <a:chExt cx="304920" cy="609840"/>
          </a:xfrm>
        </p:grpSpPr>
        <p:sp>
          <p:nvSpPr>
            <p:cNvPr id="388" name=""/>
            <p:cNvSpPr/>
            <p:nvPr/>
          </p:nvSpPr>
          <p:spPr>
            <a:xfrm>
              <a:off x="7809480" y="4724280"/>
              <a:ext cx="133920" cy="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54120" y="4803840"/>
              <a:ext cx="0" cy="530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72400" y="4878720"/>
              <a:ext cx="304920" cy="198720"/>
            </a:xfrm>
            <a:custGeom>
              <a:avLst/>
              <a:gdLst/>
              <a:ahLst/>
              <a:rect l="l" t="t" r="r" b="b"/>
              <a:pathLst>
                <a:path w="328" h="360">
                  <a:moveTo>
                    <a:pt x="88" y="0"/>
                  </a:moveTo>
                  <a:cubicBezTo>
                    <a:pt x="44" y="156"/>
                    <a:pt x="0" y="312"/>
                    <a:pt x="40" y="336"/>
                  </a:cubicBezTo>
                  <a:cubicBezTo>
                    <a:pt x="80" y="360"/>
                    <a:pt x="272" y="152"/>
                    <a:pt x="328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54120" y="5117400"/>
              <a:ext cx="178200" cy="21204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0" y="0"/>
                  </a:moveTo>
                  <a:cubicBezTo>
                    <a:pt x="56" y="40"/>
                    <a:pt x="112" y="80"/>
                    <a:pt x="144" y="144"/>
                  </a:cubicBezTo>
                  <a:cubicBezTo>
                    <a:pt x="176" y="208"/>
                    <a:pt x="184" y="336"/>
                    <a:pt x="192" y="38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8001000" y="4419720"/>
            <a:ext cx="152280" cy="990000"/>
            <a:chOff x="8001000" y="4419720"/>
            <a:chExt cx="152280" cy="990000"/>
          </a:xfrm>
        </p:grpSpPr>
        <p:sp>
          <p:nvSpPr>
            <p:cNvPr id="393" name=""/>
            <p:cNvSpPr/>
            <p:nvPr/>
          </p:nvSpPr>
          <p:spPr>
            <a:xfrm>
              <a:off x="8001000" y="4419720"/>
              <a:ext cx="152280" cy="90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76960" y="4495680"/>
              <a:ext cx="0" cy="914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562720" y="3886200"/>
            <a:ext cx="304560" cy="609120"/>
            <a:chOff x="5562720" y="3886200"/>
            <a:chExt cx="304560" cy="609120"/>
          </a:xfrm>
        </p:grpSpPr>
        <p:sp>
          <p:nvSpPr>
            <p:cNvPr id="396" name=""/>
            <p:cNvSpPr/>
            <p:nvPr/>
          </p:nvSpPr>
          <p:spPr>
            <a:xfrm>
              <a:off x="5599800" y="3886200"/>
              <a:ext cx="133560" cy="7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44440" y="3965400"/>
              <a:ext cx="0" cy="52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62720" y="4040640"/>
              <a:ext cx="304560" cy="198720"/>
            </a:xfrm>
            <a:custGeom>
              <a:avLst/>
              <a:gdLst/>
              <a:ahLst/>
              <a:rect l="l" t="t" r="r" b="b"/>
              <a:pathLst>
                <a:path w="328" h="360">
                  <a:moveTo>
                    <a:pt x="88" y="0"/>
                  </a:moveTo>
                  <a:cubicBezTo>
                    <a:pt x="44" y="156"/>
                    <a:pt x="0" y="312"/>
                    <a:pt x="40" y="336"/>
                  </a:cubicBezTo>
                  <a:cubicBezTo>
                    <a:pt x="80" y="360"/>
                    <a:pt x="272" y="152"/>
                    <a:pt x="328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44440" y="4279320"/>
              <a:ext cx="178200" cy="21168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0" y="0"/>
                  </a:moveTo>
                  <a:cubicBezTo>
                    <a:pt x="56" y="40"/>
                    <a:pt x="112" y="80"/>
                    <a:pt x="144" y="144"/>
                  </a:cubicBezTo>
                  <a:cubicBezTo>
                    <a:pt x="176" y="208"/>
                    <a:pt x="184" y="336"/>
                    <a:pt x="192" y="38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791320" y="4038480"/>
            <a:ext cx="1522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751320" y="457200"/>
            <a:ext cx="551916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ors statikus mérés, OGPSH-ra támaszkod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9600" y="990720"/>
            <a:ext cx="2869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: OGSH 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1040" y="1523880"/>
            <a:ext cx="37360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rés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yors stat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556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9240" y="5334120"/>
            <a:ext cx="335232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olgozás típusa:utól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5943600"/>
            <a:ext cx="373392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zformáció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81680" y="5410080"/>
            <a:ext cx="15264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21320" y="27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07160" y="4495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"/>
          <p:cNvCxnSpPr/>
          <p:nvPr/>
        </p:nvCxnSpPr>
        <p:spPr>
          <a:xfrm>
            <a:off x="3123720" y="3733920"/>
            <a:ext cx="3685320" cy="171504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11" name=""/>
          <p:cNvCxnSpPr/>
          <p:nvPr/>
        </p:nvCxnSpPr>
        <p:spPr>
          <a:xfrm flipH="1">
            <a:off x="2208960" y="3695760"/>
            <a:ext cx="888120" cy="9532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12" name=""/>
          <p:cNvCxnSpPr/>
          <p:nvPr/>
        </p:nvCxnSpPr>
        <p:spPr>
          <a:xfrm flipV="1">
            <a:off x="3124080" y="3657240"/>
            <a:ext cx="4115520" cy="388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7011720" y="525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63760" y="4648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91520" y="3581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971800" y="3200400"/>
            <a:ext cx="304560" cy="456840"/>
            <a:chOff x="2971800" y="3200400"/>
            <a:chExt cx="304560" cy="456840"/>
          </a:xfrm>
        </p:grpSpPr>
        <p:sp>
          <p:nvSpPr>
            <p:cNvPr id="417" name=""/>
            <p:cNvSpPr/>
            <p:nvPr/>
          </p:nvSpPr>
          <p:spPr>
            <a:xfrm flipV="1">
              <a:off x="2971800" y="3286080"/>
              <a:ext cx="142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43520" y="329184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32640" y="3200400"/>
              <a:ext cx="19944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971800" y="3581280"/>
            <a:ext cx="304920" cy="228600"/>
          </a:xfrm>
          <a:custGeom>
            <a:avLst/>
            <a:gdLst>
              <a:gd name="textAreaLeft" fmla="*/ 125640 w 304920"/>
              <a:gd name="textAreaRight" fmla="*/ 179280 w 30492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705720" y="4952880"/>
            <a:ext cx="304560" cy="456840"/>
            <a:chOff x="6705720" y="4952880"/>
            <a:chExt cx="304560" cy="456840"/>
          </a:xfrm>
        </p:grpSpPr>
        <p:sp>
          <p:nvSpPr>
            <p:cNvPr id="422" name=""/>
            <p:cNvSpPr/>
            <p:nvPr/>
          </p:nvSpPr>
          <p:spPr>
            <a:xfrm flipV="1">
              <a:off x="6705720" y="5038560"/>
              <a:ext cx="1418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77440" y="504432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66560" y="4952880"/>
              <a:ext cx="19908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7238880" y="3657600"/>
            <a:ext cx="15264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4648320"/>
            <a:ext cx="15228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748800" y="457200"/>
            <a:ext cx="673848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ors statikus mérés, permanens állomásra támaszkod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57800" y="990720"/>
            <a:ext cx="37774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: permanens állom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1040" y="1523880"/>
            <a:ext cx="37360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rés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yors stat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76520" y="556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9240" y="5334120"/>
            <a:ext cx="335232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olgozás típusa:utól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5943600"/>
            <a:ext cx="373392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zformáció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781680" y="5410080"/>
            <a:ext cx="15264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21320" y="27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707160" y="4495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"/>
          <p:cNvCxnSpPr/>
          <p:nvPr/>
        </p:nvCxnSpPr>
        <p:spPr>
          <a:xfrm>
            <a:off x="3123720" y="3733920"/>
            <a:ext cx="3685320" cy="171504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37" name=""/>
          <p:cNvCxnSpPr/>
          <p:nvPr/>
        </p:nvCxnSpPr>
        <p:spPr>
          <a:xfrm flipH="1">
            <a:off x="2208960" y="3695760"/>
            <a:ext cx="888120" cy="9532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38" name=""/>
          <p:cNvCxnSpPr/>
          <p:nvPr/>
        </p:nvCxnSpPr>
        <p:spPr>
          <a:xfrm flipV="1">
            <a:off x="3124080" y="3657240"/>
            <a:ext cx="4115520" cy="388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7011720" y="525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363760" y="4648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3581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705720" y="4952880"/>
            <a:ext cx="304560" cy="456840"/>
            <a:chOff x="6705720" y="4952880"/>
            <a:chExt cx="304560" cy="456840"/>
          </a:xfrm>
        </p:grpSpPr>
        <p:sp>
          <p:nvSpPr>
            <p:cNvPr id="443" name=""/>
            <p:cNvSpPr/>
            <p:nvPr/>
          </p:nvSpPr>
          <p:spPr>
            <a:xfrm flipV="1">
              <a:off x="6705720" y="5038560"/>
              <a:ext cx="1418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77440" y="504432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66560" y="4952880"/>
              <a:ext cx="19908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238880" y="3657600"/>
            <a:ext cx="15264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133720" y="4648320"/>
            <a:ext cx="15228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819520" y="3162240"/>
            <a:ext cx="533160" cy="533160"/>
            <a:chOff x="2819520" y="3162240"/>
            <a:chExt cx="533160" cy="533160"/>
          </a:xfrm>
        </p:grpSpPr>
        <p:sp>
          <p:nvSpPr>
            <p:cNvPr id="449" name=""/>
            <p:cNvSpPr/>
            <p:nvPr/>
          </p:nvSpPr>
          <p:spPr>
            <a:xfrm>
              <a:off x="2865600" y="3504240"/>
              <a:ext cx="463680" cy="191160"/>
            </a:xfrm>
            <a:custGeom>
              <a:avLst/>
              <a:gdLst>
                <a:gd name="textAreaLeft" fmla="*/ 191160 w 463680"/>
                <a:gd name="textAreaRight" fmla="*/ 272520 w 463680"/>
                <a:gd name="textAreaTop" fmla="*/ 78840 h 191160"/>
                <a:gd name="textAreaBottom" fmla="*/ 11232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19520" y="3162240"/>
              <a:ext cx="533160" cy="19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96720" y="3359880"/>
              <a:ext cx="0" cy="13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280" y="457200"/>
            <a:ext cx="387936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ors statikus helyi rendszer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8160" y="990720"/>
            <a:ext cx="41018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: új pont (ideális hely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60320" y="1523880"/>
            <a:ext cx="37789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rés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yors stat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76520" y="556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9240" y="5334120"/>
            <a:ext cx="335232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olgozás típusa:utól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5943600"/>
            <a:ext cx="40384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zformáció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21320" y="27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2572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"/>
          <p:cNvCxnSpPr>
            <a:endCxn id="459" idx="2"/>
          </p:cNvCxnSpPr>
          <p:nvPr/>
        </p:nvCxnSpPr>
        <p:spPr>
          <a:xfrm>
            <a:off x="3096720" y="3695760"/>
            <a:ext cx="3685320" cy="171504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endCxn id="460" idx="0"/>
          </p:cNvCxnSpPr>
          <p:nvPr/>
        </p:nvCxnSpPr>
        <p:spPr>
          <a:xfrm flipH="1">
            <a:off x="2208960" y="3695760"/>
            <a:ext cx="888120" cy="9532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endCxn id="458" idx="2"/>
          </p:cNvCxnSpPr>
          <p:nvPr/>
        </p:nvCxnSpPr>
        <p:spPr>
          <a:xfrm flipV="1">
            <a:off x="3096720" y="3657240"/>
            <a:ext cx="4142520" cy="388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7011720" y="525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363760" y="4648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91520" y="3581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971800" y="3200400"/>
            <a:ext cx="304560" cy="456840"/>
            <a:chOff x="2971800" y="3200400"/>
            <a:chExt cx="304560" cy="456840"/>
          </a:xfrm>
        </p:grpSpPr>
        <p:sp>
          <p:nvSpPr>
            <p:cNvPr id="470" name=""/>
            <p:cNvSpPr/>
            <p:nvPr/>
          </p:nvSpPr>
          <p:spPr>
            <a:xfrm flipV="1">
              <a:off x="2971800" y="3286080"/>
              <a:ext cx="142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43520" y="329184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32640" y="3200400"/>
              <a:ext cx="19944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676520" y="2133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15200" y="1371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5486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36576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1"/>
            <a:endCxn id="473" idx="5"/>
          </p:cNvCxnSpPr>
          <p:nvPr/>
        </p:nvCxnSpPr>
        <p:spPr>
          <a:xfrm flipH="1" flipV="1">
            <a:off x="1806120" y="2263320"/>
            <a:ext cx="1264320" cy="14169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76" idx="7"/>
            <a:endCxn id="474" idx="3"/>
          </p:cNvCxnSpPr>
          <p:nvPr/>
        </p:nvCxnSpPr>
        <p:spPr>
          <a:xfrm flipV="1">
            <a:off x="3178080" y="1501560"/>
            <a:ext cx="4159800" cy="21787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79" name=""/>
          <p:cNvCxnSpPr>
            <a:stCxn id="476" idx="5"/>
            <a:endCxn id="475" idx="1"/>
          </p:cNvCxnSpPr>
          <p:nvPr/>
        </p:nvCxnSpPr>
        <p:spPr>
          <a:xfrm>
            <a:off x="3177720" y="3787920"/>
            <a:ext cx="1569240" cy="17215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5562720" y="6400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6095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3600" y="60199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Új 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936400" y="632448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appont a helyi rendszer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3520" y="50292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"/>
          <p:cNvCxnSpPr>
            <a:stCxn id="476" idx="2"/>
            <a:endCxn id="484" idx="6"/>
          </p:cNvCxnSpPr>
          <p:nvPr/>
        </p:nvCxnSpPr>
        <p:spPr>
          <a:xfrm flipH="1">
            <a:off x="685440" y="3733920"/>
            <a:ext cx="2363040" cy="13723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grpSp>
        <p:nvGrpSpPr>
          <p:cNvPr id="486" name=""/>
          <p:cNvGrpSpPr/>
          <p:nvPr/>
        </p:nvGrpSpPr>
        <p:grpSpPr>
          <a:xfrm>
            <a:off x="1600200" y="1828800"/>
            <a:ext cx="304560" cy="456840"/>
            <a:chOff x="1600200" y="1828800"/>
            <a:chExt cx="304560" cy="456840"/>
          </a:xfrm>
        </p:grpSpPr>
        <p:sp>
          <p:nvSpPr>
            <p:cNvPr id="487" name=""/>
            <p:cNvSpPr/>
            <p:nvPr/>
          </p:nvSpPr>
          <p:spPr>
            <a:xfrm flipV="1">
              <a:off x="1600200" y="1914480"/>
              <a:ext cx="142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71920" y="192024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61040" y="1828800"/>
              <a:ext cx="19944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238880" y="990720"/>
            <a:ext cx="304560" cy="456840"/>
            <a:chOff x="7238880" y="990720"/>
            <a:chExt cx="304560" cy="456840"/>
          </a:xfrm>
        </p:grpSpPr>
        <p:sp>
          <p:nvSpPr>
            <p:cNvPr id="491" name=""/>
            <p:cNvSpPr/>
            <p:nvPr/>
          </p:nvSpPr>
          <p:spPr>
            <a:xfrm flipV="1">
              <a:off x="7238880" y="1076400"/>
              <a:ext cx="142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10600" y="108216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99720" y="990720"/>
              <a:ext cx="19944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57200" y="4648320"/>
            <a:ext cx="304560" cy="456840"/>
            <a:chOff x="457200" y="4648320"/>
            <a:chExt cx="304560" cy="456840"/>
          </a:xfrm>
        </p:grpSpPr>
        <p:sp>
          <p:nvSpPr>
            <p:cNvPr id="495" name=""/>
            <p:cNvSpPr/>
            <p:nvPr/>
          </p:nvSpPr>
          <p:spPr>
            <a:xfrm flipV="1">
              <a:off x="457200" y="4734000"/>
              <a:ext cx="142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8920" y="473976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8040" y="4648320"/>
              <a:ext cx="19944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724280" y="5105520"/>
            <a:ext cx="304560" cy="456840"/>
            <a:chOff x="4724280" y="5105520"/>
            <a:chExt cx="304560" cy="456840"/>
          </a:xfrm>
        </p:grpSpPr>
        <p:sp>
          <p:nvSpPr>
            <p:cNvPr id="499" name=""/>
            <p:cNvSpPr/>
            <p:nvPr/>
          </p:nvSpPr>
          <p:spPr>
            <a:xfrm flipV="1">
              <a:off x="4724280" y="5191200"/>
              <a:ext cx="142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96000" y="519696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85120" y="5105520"/>
              <a:ext cx="19944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758520" y="457200"/>
            <a:ext cx="342072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ors statikus EOVA pon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61040" y="990720"/>
            <a:ext cx="28249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: EOVA 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0320" y="1523880"/>
            <a:ext cx="377892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rés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yors stat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6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59240" y="5334120"/>
            <a:ext cx="335232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olgozás típusa:utól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2120" y="5943600"/>
            <a:ext cx="40384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ranszformáció típusa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tírány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21320" y="27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64360" y="274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"/>
          <p:cNvCxnSpPr>
            <a:endCxn id="509" idx="2"/>
          </p:cNvCxnSpPr>
          <p:nvPr/>
        </p:nvCxnSpPr>
        <p:spPr>
          <a:xfrm>
            <a:off x="3096720" y="3695760"/>
            <a:ext cx="3685320" cy="171504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endCxn id="510" idx="0"/>
          </p:cNvCxnSpPr>
          <p:nvPr/>
        </p:nvCxnSpPr>
        <p:spPr>
          <a:xfrm flipH="1">
            <a:off x="2208960" y="3695760"/>
            <a:ext cx="888120" cy="9532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endCxn id="508" idx="2"/>
          </p:cNvCxnSpPr>
          <p:nvPr/>
        </p:nvCxnSpPr>
        <p:spPr>
          <a:xfrm flipV="1">
            <a:off x="3096720" y="3657240"/>
            <a:ext cx="4142520" cy="388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7011720" y="525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363760" y="4648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391520" y="3581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971800" y="3200400"/>
            <a:ext cx="304560" cy="456840"/>
            <a:chOff x="2971800" y="3200400"/>
            <a:chExt cx="304560" cy="456840"/>
          </a:xfrm>
        </p:grpSpPr>
        <p:sp>
          <p:nvSpPr>
            <p:cNvPr id="520" name=""/>
            <p:cNvSpPr/>
            <p:nvPr/>
          </p:nvSpPr>
          <p:spPr>
            <a:xfrm flipV="1">
              <a:off x="2971800" y="3286080"/>
              <a:ext cx="142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43520" y="329184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32640" y="3200400"/>
              <a:ext cx="19944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5562720" y="6095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943600" y="60199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Új 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941800" y="63244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 alappo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162920" y="3200400"/>
            <a:ext cx="304560" cy="456840"/>
            <a:chOff x="7162920" y="3200400"/>
            <a:chExt cx="304560" cy="456840"/>
          </a:xfrm>
        </p:grpSpPr>
        <p:sp>
          <p:nvSpPr>
            <p:cNvPr id="527" name=""/>
            <p:cNvSpPr/>
            <p:nvPr/>
          </p:nvSpPr>
          <p:spPr>
            <a:xfrm flipV="1">
              <a:off x="7162920" y="3286080"/>
              <a:ext cx="1418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34640" y="329184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23760" y="3200400"/>
              <a:ext cx="19908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2971800" y="3581280"/>
            <a:ext cx="29520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62720" y="6400800"/>
            <a:ext cx="29520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űholdas helymeghatározás alap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952960" y="2349360"/>
                <a:ext cx="25797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7" name=""/>
          <p:cNvGrpSpPr/>
          <p:nvPr/>
        </p:nvGrpSpPr>
        <p:grpSpPr>
          <a:xfrm>
            <a:off x="4191120" y="1295280"/>
            <a:ext cx="457200" cy="380880"/>
            <a:chOff x="4191120" y="1295280"/>
            <a:chExt cx="457200" cy="380880"/>
          </a:xfrm>
        </p:grpSpPr>
        <p:sp>
          <p:nvSpPr>
            <p:cNvPr id="58" name=""/>
            <p:cNvSpPr/>
            <p:nvPr/>
          </p:nvSpPr>
          <p:spPr>
            <a:xfrm>
              <a:off x="4191120" y="1324440"/>
              <a:ext cx="457200" cy="35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19720" y="1295280"/>
              <a:ext cx="0" cy="20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19720" y="1500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57200" y="1219320"/>
            <a:ext cx="457200" cy="380880"/>
            <a:chOff x="457200" y="1219320"/>
            <a:chExt cx="457200" cy="380880"/>
          </a:xfrm>
        </p:grpSpPr>
        <p:sp>
          <p:nvSpPr>
            <p:cNvPr id="62" name=""/>
            <p:cNvSpPr/>
            <p:nvPr/>
          </p:nvSpPr>
          <p:spPr>
            <a:xfrm>
              <a:off x="457200" y="1248480"/>
              <a:ext cx="457200" cy="35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5800" y="1219320"/>
              <a:ext cx="0" cy="20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1424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048120" y="4267080"/>
            <a:ext cx="457200" cy="380880"/>
            <a:chOff x="3048120" y="4267080"/>
            <a:chExt cx="457200" cy="380880"/>
          </a:xfrm>
        </p:grpSpPr>
        <p:sp>
          <p:nvSpPr>
            <p:cNvPr id="66" name=""/>
            <p:cNvSpPr/>
            <p:nvPr/>
          </p:nvSpPr>
          <p:spPr>
            <a:xfrm>
              <a:off x="3048120" y="4296240"/>
              <a:ext cx="457200" cy="35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4267080"/>
              <a:ext cx="0" cy="20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6720" y="4472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5257800"/>
            <a:ext cx="457200" cy="380880"/>
            <a:chOff x="7238880" y="5257800"/>
            <a:chExt cx="457200" cy="380880"/>
          </a:xfrm>
        </p:grpSpPr>
        <p:sp>
          <p:nvSpPr>
            <p:cNvPr id="70" name=""/>
            <p:cNvSpPr/>
            <p:nvPr/>
          </p:nvSpPr>
          <p:spPr>
            <a:xfrm>
              <a:off x="7238880" y="5286960"/>
              <a:ext cx="457200" cy="35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67480" y="5257800"/>
              <a:ext cx="0" cy="20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67480" y="5463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914400" y="1143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(Y1,X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2193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Y2,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518148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Y3,X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720" y="508464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(Yp,X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752480"/>
            <a:ext cx="15264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1676520"/>
            <a:ext cx="15228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5486400"/>
            <a:ext cx="15264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1147680" cy="730080"/>
          </a:xfrm>
          <a:prstGeom prst="rect">
            <a:avLst/>
          </a:prstGeom>
          <a:ln w="0">
            <a:noFill/>
          </a:ln>
        </p:spPr>
      </p:pic>
      <p:cxnSp>
        <p:nvCxnSpPr>
          <p:cNvPr id="81" name=""/>
          <p:cNvCxnSpPr>
            <a:stCxn id="77" idx="4"/>
          </p:cNvCxnSpPr>
          <p:nvPr/>
        </p:nvCxnSpPr>
        <p:spPr>
          <a:xfrm>
            <a:off x="685440" y="1828440"/>
            <a:ext cx="2057760" cy="289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78" idx="4"/>
          </p:cNvCxnSpPr>
          <p:nvPr/>
        </p:nvCxnSpPr>
        <p:spPr>
          <a:xfrm flipH="1">
            <a:off x="2796840" y="1752480"/>
            <a:ext cx="1470240" cy="298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/>
          <p:nvPr/>
        </p:nvCxnSpPr>
        <p:spPr>
          <a:xfrm>
            <a:off x="2842920" y="4724280"/>
            <a:ext cx="4213440" cy="78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1452960" y="2438280"/>
            <a:ext cx="107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=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14920" y="3032280"/>
            <a:ext cx="107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=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4240" y="4724280"/>
            <a:ext cx="107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3=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282680"/>
            <a:ext cx="6324480" cy="4203720"/>
          </a:xfrm>
          <a:custGeom>
            <a:avLst/>
            <a:gdLst/>
            <a:ahLst/>
            <a:rect l="l" t="t" r="r" b="b"/>
            <a:pathLst>
              <a:path w="3984" h="2648">
                <a:moveTo>
                  <a:pt x="0" y="296"/>
                </a:moveTo>
                <a:cubicBezTo>
                  <a:pt x="428" y="156"/>
                  <a:pt x="856" y="16"/>
                  <a:pt x="1152" y="8"/>
                </a:cubicBezTo>
                <a:cubicBezTo>
                  <a:pt x="1448" y="0"/>
                  <a:pt x="1600" y="208"/>
                  <a:pt x="1776" y="248"/>
                </a:cubicBezTo>
                <a:cubicBezTo>
                  <a:pt x="1952" y="288"/>
                  <a:pt x="2024" y="192"/>
                  <a:pt x="2208" y="248"/>
                </a:cubicBezTo>
                <a:cubicBezTo>
                  <a:pt x="2392" y="304"/>
                  <a:pt x="2736" y="344"/>
                  <a:pt x="2880" y="584"/>
                </a:cubicBezTo>
                <a:cubicBezTo>
                  <a:pt x="3024" y="824"/>
                  <a:pt x="2888" y="1344"/>
                  <a:pt x="3072" y="1688"/>
                </a:cubicBezTo>
                <a:cubicBezTo>
                  <a:pt x="3256" y="2032"/>
                  <a:pt x="3824" y="2616"/>
                  <a:pt x="3984" y="264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800600"/>
            <a:ext cx="914400" cy="99072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133360" y="4724280"/>
            <a:ext cx="685800" cy="129564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523520" y="4495320"/>
            <a:ext cx="1219320" cy="22860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191120" y="41911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295280" y="5257800"/>
            <a:ext cx="2210040" cy="1371600"/>
          </a:xfrm>
          <a:custGeom>
            <a:avLst/>
            <a:gdLst/>
            <a:ahLst/>
            <a:rect l="l" t="t" r="r" b="b"/>
            <a:pathLst>
              <a:path w="1392" h="864">
                <a:moveTo>
                  <a:pt x="0" y="0"/>
                </a:moveTo>
                <a:cubicBezTo>
                  <a:pt x="136" y="140"/>
                  <a:pt x="272" y="280"/>
                  <a:pt x="384" y="384"/>
                </a:cubicBezTo>
                <a:cubicBezTo>
                  <a:pt x="496" y="488"/>
                  <a:pt x="536" y="552"/>
                  <a:pt x="672" y="624"/>
                </a:cubicBezTo>
                <a:cubicBezTo>
                  <a:pt x="808" y="696"/>
                  <a:pt x="1080" y="776"/>
                  <a:pt x="1200" y="816"/>
                </a:cubicBezTo>
                <a:cubicBezTo>
                  <a:pt x="1320" y="856"/>
                  <a:pt x="1356" y="860"/>
                  <a:pt x="1392" y="864"/>
                </a:cubicBezTo>
              </a:path>
            </a:pathLst>
          </a:custGeom>
          <a:noFill/>
          <a:ln cap="rnd" w="9360">
            <a:solidFill>
              <a:srgbClr val="ff33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5334120"/>
            <a:ext cx="2209680" cy="1396800"/>
          </a:xfrm>
          <a:custGeom>
            <a:avLst/>
            <a:gdLst/>
            <a:ahLst/>
            <a:rect l="l" t="t" r="r" b="b"/>
            <a:pathLst>
              <a:path w="1392" h="880">
                <a:moveTo>
                  <a:pt x="1392" y="0"/>
                </a:moveTo>
                <a:cubicBezTo>
                  <a:pt x="1316" y="116"/>
                  <a:pt x="1240" y="232"/>
                  <a:pt x="1152" y="336"/>
                </a:cubicBezTo>
                <a:cubicBezTo>
                  <a:pt x="1064" y="440"/>
                  <a:pt x="960" y="552"/>
                  <a:pt x="864" y="624"/>
                </a:cubicBezTo>
                <a:cubicBezTo>
                  <a:pt x="768" y="696"/>
                  <a:pt x="688" y="728"/>
                  <a:pt x="576" y="768"/>
                </a:cubicBezTo>
                <a:cubicBezTo>
                  <a:pt x="464" y="808"/>
                  <a:pt x="288" y="848"/>
                  <a:pt x="192" y="864"/>
                </a:cubicBezTo>
                <a:cubicBezTo>
                  <a:pt x="96" y="880"/>
                  <a:pt x="48" y="872"/>
                  <a:pt x="0" y="864"/>
                </a:cubicBezTo>
              </a:path>
            </a:pathLst>
          </a:custGeom>
          <a:noFill/>
          <a:ln cap="rnd" w="9360">
            <a:solidFill>
              <a:srgbClr val="ff33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809880"/>
            <a:ext cx="380880" cy="2895840"/>
          </a:xfrm>
          <a:custGeom>
            <a:avLst/>
            <a:gdLst/>
            <a:ahLst/>
            <a:rect l="l" t="t" r="r" b="b"/>
            <a:pathLst>
              <a:path w="240" h="1824">
                <a:moveTo>
                  <a:pt x="144" y="0"/>
                </a:moveTo>
                <a:cubicBezTo>
                  <a:pt x="108" y="120"/>
                  <a:pt x="72" y="240"/>
                  <a:pt x="48" y="384"/>
                </a:cubicBezTo>
                <a:cubicBezTo>
                  <a:pt x="24" y="528"/>
                  <a:pt x="0" y="712"/>
                  <a:pt x="0" y="864"/>
                </a:cubicBezTo>
                <a:cubicBezTo>
                  <a:pt x="0" y="1016"/>
                  <a:pt x="8" y="1136"/>
                  <a:pt x="48" y="1296"/>
                </a:cubicBezTo>
                <a:cubicBezTo>
                  <a:pt x="88" y="1456"/>
                  <a:pt x="208" y="1792"/>
                  <a:pt x="240" y="1824"/>
                </a:cubicBezTo>
              </a:path>
            </a:pathLst>
          </a:custGeom>
          <a:noFill/>
          <a:ln cap="rnd" w="9360">
            <a:solidFill>
              <a:srgbClr val="ff33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760" y="4952880"/>
            <a:ext cx="6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3920" y="41148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9720" y="5486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63244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67057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5562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4000" y="5589360"/>
            <a:ext cx="863280" cy="864000"/>
            <a:chOff x="324000" y="5589360"/>
            <a:chExt cx="863280" cy="864000"/>
          </a:xfrm>
        </p:grpSpPr>
        <p:sp>
          <p:nvSpPr>
            <p:cNvPr id="104" name=""/>
            <p:cNvSpPr/>
            <p:nvPr/>
          </p:nvSpPr>
          <p:spPr>
            <a:xfrm flipV="1">
              <a:off x="324000" y="558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00" y="64533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12000" y="1844640"/>
                <a:ext cx="25048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978520" y="2852640"/>
                <a:ext cx="25732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3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640720" y="1836720"/>
                <a:ext cx="503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c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δ</m:t>
                        </m:r>
                      </m:e>
                    </m:ba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8640720" y="2843280"/>
                <a:ext cx="503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c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δ</m:t>
                        </m:r>
                      </m:e>
                    </m:ba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8640720" y="2341440"/>
                <a:ext cx="503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c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δ</m:t>
                        </m:r>
                      </m:e>
                    </m:ba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581440" y="177336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0560" y="22716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0560" y="277488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80000" y="5084640"/>
                <a:ext cx="2444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δ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756360" y="457200"/>
            <a:ext cx="451188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nematikus, OGPSH-ra támaszkod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9960" y="990720"/>
            <a:ext cx="30384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: OGPSH 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1760" y="1523880"/>
            <a:ext cx="355176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érés típusa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top-and-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lyam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76520" y="556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9240" y="5334120"/>
            <a:ext cx="335232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olgozás típusa:utól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5943600"/>
            <a:ext cx="40384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zformáció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553080" y="4800600"/>
            <a:ext cx="304920" cy="609120"/>
            <a:chOff x="6553080" y="4800600"/>
            <a:chExt cx="304920" cy="609120"/>
          </a:xfrm>
        </p:grpSpPr>
        <p:sp>
          <p:nvSpPr>
            <p:cNvPr id="539" name=""/>
            <p:cNvSpPr/>
            <p:nvPr/>
          </p:nvSpPr>
          <p:spPr>
            <a:xfrm>
              <a:off x="6590160" y="4800600"/>
              <a:ext cx="133920" cy="7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34800" y="4879800"/>
              <a:ext cx="0" cy="52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53080" y="4955040"/>
              <a:ext cx="304920" cy="198720"/>
            </a:xfrm>
            <a:custGeom>
              <a:avLst/>
              <a:gdLst/>
              <a:ahLst/>
              <a:rect l="l" t="t" r="r" b="b"/>
              <a:pathLst>
                <a:path w="328" h="360">
                  <a:moveTo>
                    <a:pt x="88" y="0"/>
                  </a:moveTo>
                  <a:cubicBezTo>
                    <a:pt x="44" y="156"/>
                    <a:pt x="0" y="312"/>
                    <a:pt x="40" y="336"/>
                  </a:cubicBezTo>
                  <a:cubicBezTo>
                    <a:pt x="80" y="360"/>
                    <a:pt x="272" y="152"/>
                    <a:pt x="328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34800" y="5193720"/>
              <a:ext cx="178200" cy="21168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0" y="0"/>
                  </a:moveTo>
                  <a:cubicBezTo>
                    <a:pt x="56" y="40"/>
                    <a:pt x="112" y="80"/>
                    <a:pt x="144" y="144"/>
                  </a:cubicBezTo>
                  <a:cubicBezTo>
                    <a:pt x="176" y="208"/>
                    <a:pt x="184" y="336"/>
                    <a:pt x="192" y="38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821320" y="27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25920" y="4343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"/>
          <p:cNvCxnSpPr>
            <a:endCxn id="544" idx="2"/>
          </p:cNvCxnSpPr>
          <p:nvPr/>
        </p:nvCxnSpPr>
        <p:spPr>
          <a:xfrm>
            <a:off x="3096720" y="3695760"/>
            <a:ext cx="3685320" cy="171504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endCxn id="545" idx="0"/>
          </p:cNvCxnSpPr>
          <p:nvPr/>
        </p:nvCxnSpPr>
        <p:spPr>
          <a:xfrm flipH="1">
            <a:off x="2208960" y="3695760"/>
            <a:ext cx="888120" cy="9532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endCxn id="543" idx="2"/>
          </p:cNvCxnSpPr>
          <p:nvPr/>
        </p:nvCxnSpPr>
        <p:spPr>
          <a:xfrm flipV="1">
            <a:off x="3096720" y="3657240"/>
            <a:ext cx="4142520" cy="388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731664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363760" y="4648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971800" y="3200400"/>
            <a:ext cx="304560" cy="456840"/>
            <a:chOff x="2971800" y="3200400"/>
            <a:chExt cx="304560" cy="456840"/>
          </a:xfrm>
        </p:grpSpPr>
        <p:sp>
          <p:nvSpPr>
            <p:cNvPr id="555" name=""/>
            <p:cNvSpPr/>
            <p:nvPr/>
          </p:nvSpPr>
          <p:spPr>
            <a:xfrm flipV="1">
              <a:off x="2971800" y="3286080"/>
              <a:ext cx="142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43520" y="329184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32640" y="3200400"/>
              <a:ext cx="19944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5562720" y="6095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943600" y="60199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Új 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943240" y="632448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útv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257800" y="6299280"/>
            <a:ext cx="685800" cy="355680"/>
          </a:xfrm>
          <a:custGeom>
            <a:avLst/>
            <a:gdLst/>
            <a:ahLst/>
            <a:rect l="l" t="t" r="r" b="b"/>
            <a:pathLst>
              <a:path w="432" h="224">
                <a:moveTo>
                  <a:pt x="432" y="112"/>
                </a:moveTo>
                <a:cubicBezTo>
                  <a:pt x="388" y="168"/>
                  <a:pt x="344" y="224"/>
                  <a:pt x="288" y="208"/>
                </a:cubicBezTo>
                <a:cubicBezTo>
                  <a:pt x="232" y="192"/>
                  <a:pt x="144" y="32"/>
                  <a:pt x="96" y="16"/>
                </a:cubicBezTo>
                <a:cubicBezTo>
                  <a:pt x="48" y="0"/>
                  <a:pt x="24" y="56"/>
                  <a:pt x="0" y="112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70000" y="2971800"/>
            <a:ext cx="5473800" cy="2844720"/>
          </a:xfrm>
          <a:custGeom>
            <a:avLst/>
            <a:gdLst/>
            <a:ahLst/>
            <a:rect l="l" t="t" r="r" b="b"/>
            <a:pathLst>
              <a:path w="3448" h="1792">
                <a:moveTo>
                  <a:pt x="88" y="1152"/>
                </a:moveTo>
                <a:cubicBezTo>
                  <a:pt x="44" y="1172"/>
                  <a:pt x="0" y="1192"/>
                  <a:pt x="136" y="1152"/>
                </a:cubicBezTo>
                <a:cubicBezTo>
                  <a:pt x="272" y="1112"/>
                  <a:pt x="680" y="848"/>
                  <a:pt x="904" y="912"/>
                </a:cubicBezTo>
                <a:cubicBezTo>
                  <a:pt x="1128" y="976"/>
                  <a:pt x="1248" y="1448"/>
                  <a:pt x="1480" y="1536"/>
                </a:cubicBezTo>
                <a:cubicBezTo>
                  <a:pt x="1712" y="1624"/>
                  <a:pt x="2056" y="1400"/>
                  <a:pt x="2296" y="1440"/>
                </a:cubicBezTo>
                <a:cubicBezTo>
                  <a:pt x="2536" y="1480"/>
                  <a:pt x="2800" y="1760"/>
                  <a:pt x="2920" y="1776"/>
                </a:cubicBezTo>
                <a:cubicBezTo>
                  <a:pt x="3040" y="1792"/>
                  <a:pt x="2936" y="1680"/>
                  <a:pt x="3016" y="1536"/>
                </a:cubicBezTo>
                <a:cubicBezTo>
                  <a:pt x="3096" y="1392"/>
                  <a:pt x="3352" y="1096"/>
                  <a:pt x="3400" y="912"/>
                </a:cubicBezTo>
                <a:cubicBezTo>
                  <a:pt x="3448" y="728"/>
                  <a:pt x="3344" y="584"/>
                  <a:pt x="3304" y="432"/>
                </a:cubicBezTo>
                <a:cubicBezTo>
                  <a:pt x="3264" y="280"/>
                  <a:pt x="3212" y="140"/>
                  <a:pt x="316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71800" y="3581280"/>
            <a:ext cx="304920" cy="228600"/>
          </a:xfrm>
          <a:custGeom>
            <a:avLst/>
            <a:gdLst>
              <a:gd name="textAreaLeft" fmla="*/ 125640 w 304920"/>
              <a:gd name="textAreaRight" fmla="*/ 179280 w 30492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781680" y="4419720"/>
            <a:ext cx="228600" cy="990000"/>
            <a:chOff x="6781680" y="4419720"/>
            <a:chExt cx="228600" cy="990000"/>
          </a:xfrm>
        </p:grpSpPr>
        <p:sp>
          <p:nvSpPr>
            <p:cNvPr id="565" name=""/>
            <p:cNvSpPr/>
            <p:nvPr/>
          </p:nvSpPr>
          <p:spPr>
            <a:xfrm>
              <a:off x="6781680" y="4419720"/>
              <a:ext cx="152640" cy="90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8000" y="4510080"/>
              <a:ext cx="0" cy="8996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58000" y="5029200"/>
              <a:ext cx="152280" cy="380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753840" y="457200"/>
            <a:ext cx="580140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matikus, permanens állomásra  támaszkod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58160" y="990720"/>
            <a:ext cx="36356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: referencia állom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61760" y="1523880"/>
            <a:ext cx="355176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érés típusa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top-and-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lyam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76520" y="556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59240" y="5334120"/>
            <a:ext cx="335232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olgozás típusa:utól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5943600"/>
            <a:ext cx="40384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zformáció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553080" y="4800600"/>
            <a:ext cx="304920" cy="609120"/>
            <a:chOff x="6553080" y="4800600"/>
            <a:chExt cx="304920" cy="609120"/>
          </a:xfrm>
        </p:grpSpPr>
        <p:sp>
          <p:nvSpPr>
            <p:cNvPr id="575" name=""/>
            <p:cNvSpPr/>
            <p:nvPr/>
          </p:nvSpPr>
          <p:spPr>
            <a:xfrm>
              <a:off x="6590160" y="4800600"/>
              <a:ext cx="133920" cy="7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34800" y="4879800"/>
              <a:ext cx="0" cy="52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553080" y="4955040"/>
              <a:ext cx="304920" cy="198720"/>
            </a:xfrm>
            <a:custGeom>
              <a:avLst/>
              <a:gdLst/>
              <a:ahLst/>
              <a:rect l="l" t="t" r="r" b="b"/>
              <a:pathLst>
                <a:path w="328" h="360">
                  <a:moveTo>
                    <a:pt x="88" y="0"/>
                  </a:moveTo>
                  <a:cubicBezTo>
                    <a:pt x="44" y="156"/>
                    <a:pt x="0" y="312"/>
                    <a:pt x="40" y="336"/>
                  </a:cubicBezTo>
                  <a:cubicBezTo>
                    <a:pt x="80" y="360"/>
                    <a:pt x="272" y="152"/>
                    <a:pt x="328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34800" y="5193720"/>
              <a:ext cx="178200" cy="21168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0" y="0"/>
                  </a:moveTo>
                  <a:cubicBezTo>
                    <a:pt x="56" y="40"/>
                    <a:pt x="112" y="80"/>
                    <a:pt x="144" y="144"/>
                  </a:cubicBezTo>
                  <a:cubicBezTo>
                    <a:pt x="176" y="208"/>
                    <a:pt x="184" y="336"/>
                    <a:pt x="192" y="38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821320" y="27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325920" y="4343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"/>
          <p:cNvCxnSpPr>
            <a:endCxn id="580" idx="2"/>
          </p:cNvCxnSpPr>
          <p:nvPr/>
        </p:nvCxnSpPr>
        <p:spPr>
          <a:xfrm>
            <a:off x="3096720" y="3695760"/>
            <a:ext cx="3685320" cy="171504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endCxn id="581" idx="0"/>
          </p:cNvCxnSpPr>
          <p:nvPr/>
        </p:nvCxnSpPr>
        <p:spPr>
          <a:xfrm flipH="1">
            <a:off x="2208960" y="3695760"/>
            <a:ext cx="888120" cy="9532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endCxn id="579" idx="2"/>
          </p:cNvCxnSpPr>
          <p:nvPr/>
        </p:nvCxnSpPr>
        <p:spPr>
          <a:xfrm flipV="1">
            <a:off x="3096720" y="3657240"/>
            <a:ext cx="4142520" cy="388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731664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63760" y="4648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5257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62720" y="6095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943600" y="60199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Új 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943240" y="632448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útv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57800" y="6299280"/>
            <a:ext cx="685800" cy="355680"/>
          </a:xfrm>
          <a:custGeom>
            <a:avLst/>
            <a:gdLst/>
            <a:ahLst/>
            <a:rect l="l" t="t" r="r" b="b"/>
            <a:pathLst>
              <a:path w="432" h="224">
                <a:moveTo>
                  <a:pt x="432" y="112"/>
                </a:moveTo>
                <a:cubicBezTo>
                  <a:pt x="388" y="168"/>
                  <a:pt x="344" y="224"/>
                  <a:pt x="288" y="208"/>
                </a:cubicBezTo>
                <a:cubicBezTo>
                  <a:pt x="232" y="192"/>
                  <a:pt x="144" y="32"/>
                  <a:pt x="96" y="16"/>
                </a:cubicBezTo>
                <a:cubicBezTo>
                  <a:pt x="48" y="0"/>
                  <a:pt x="24" y="56"/>
                  <a:pt x="0" y="112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70000" y="2971800"/>
            <a:ext cx="5473800" cy="2844720"/>
          </a:xfrm>
          <a:custGeom>
            <a:avLst/>
            <a:gdLst/>
            <a:ahLst/>
            <a:rect l="l" t="t" r="r" b="b"/>
            <a:pathLst>
              <a:path w="3448" h="1792">
                <a:moveTo>
                  <a:pt x="88" y="1152"/>
                </a:moveTo>
                <a:cubicBezTo>
                  <a:pt x="44" y="1172"/>
                  <a:pt x="0" y="1192"/>
                  <a:pt x="136" y="1152"/>
                </a:cubicBezTo>
                <a:cubicBezTo>
                  <a:pt x="272" y="1112"/>
                  <a:pt x="680" y="848"/>
                  <a:pt x="904" y="912"/>
                </a:cubicBezTo>
                <a:cubicBezTo>
                  <a:pt x="1128" y="976"/>
                  <a:pt x="1248" y="1448"/>
                  <a:pt x="1480" y="1536"/>
                </a:cubicBezTo>
                <a:cubicBezTo>
                  <a:pt x="1712" y="1624"/>
                  <a:pt x="2056" y="1400"/>
                  <a:pt x="2296" y="1440"/>
                </a:cubicBezTo>
                <a:cubicBezTo>
                  <a:pt x="2536" y="1480"/>
                  <a:pt x="2800" y="1760"/>
                  <a:pt x="2920" y="1776"/>
                </a:cubicBezTo>
                <a:cubicBezTo>
                  <a:pt x="3040" y="1792"/>
                  <a:pt x="2936" y="1680"/>
                  <a:pt x="3016" y="1536"/>
                </a:cubicBezTo>
                <a:cubicBezTo>
                  <a:pt x="3096" y="1392"/>
                  <a:pt x="3352" y="1096"/>
                  <a:pt x="3400" y="912"/>
                </a:cubicBezTo>
                <a:cubicBezTo>
                  <a:pt x="3448" y="728"/>
                  <a:pt x="3344" y="584"/>
                  <a:pt x="3304" y="432"/>
                </a:cubicBezTo>
                <a:cubicBezTo>
                  <a:pt x="3264" y="280"/>
                  <a:pt x="3212" y="140"/>
                  <a:pt x="3160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819520" y="3200400"/>
            <a:ext cx="533160" cy="533160"/>
            <a:chOff x="2819520" y="3200400"/>
            <a:chExt cx="533160" cy="533160"/>
          </a:xfrm>
        </p:grpSpPr>
        <p:sp>
          <p:nvSpPr>
            <p:cNvPr id="596" name=""/>
            <p:cNvSpPr/>
            <p:nvPr/>
          </p:nvSpPr>
          <p:spPr>
            <a:xfrm>
              <a:off x="2865600" y="3542400"/>
              <a:ext cx="463680" cy="191160"/>
            </a:xfrm>
            <a:custGeom>
              <a:avLst/>
              <a:gdLst>
                <a:gd name="textAreaLeft" fmla="*/ 191160 w 463680"/>
                <a:gd name="textAreaRight" fmla="*/ 272520 w 463680"/>
                <a:gd name="textAreaTop" fmla="*/ 78840 h 191160"/>
                <a:gd name="textAreaBottom" fmla="*/ 11232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19520" y="3200400"/>
              <a:ext cx="533160" cy="19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96720" y="3398040"/>
              <a:ext cx="0" cy="13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781680" y="4419720"/>
            <a:ext cx="228600" cy="990000"/>
            <a:chOff x="6781680" y="4419720"/>
            <a:chExt cx="228600" cy="990000"/>
          </a:xfrm>
        </p:grpSpPr>
        <p:sp>
          <p:nvSpPr>
            <p:cNvPr id="600" name=""/>
            <p:cNvSpPr/>
            <p:nvPr/>
          </p:nvSpPr>
          <p:spPr>
            <a:xfrm>
              <a:off x="6781680" y="4419720"/>
              <a:ext cx="152640" cy="90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0" y="4510080"/>
              <a:ext cx="0" cy="8996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58000" y="5029200"/>
              <a:ext cx="152280" cy="380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ós idejű technológi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Real-Time Kinematic – R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Egybázisos RTK, 2. Hálózatos R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9cc00"/>
                </a:solidFill>
                <a:latin typeface="Arial"/>
              </a:rPr>
              <a:t>Feltétel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99cc00"/>
                </a:solidFill>
                <a:latin typeface="Arial"/>
              </a:rPr>
              <a:t>Referencia vevő</a:t>
            </a:r>
            <a:r>
              <a:rPr b="0" lang="hu-HU" sz="1600" spc="-1" strike="noStrike">
                <a:solidFill>
                  <a:srgbClr val="99cc00"/>
                </a:solidFill>
                <a:latin typeface="Arial"/>
              </a:rPr>
              <a:t> teljes mérési anyagának közel egyidejű továbbítása a mozgó vevőhöz (URH rádió/ GSM telefon/ Internet GP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99cc00"/>
                </a:solidFill>
                <a:latin typeface="Arial"/>
              </a:rPr>
              <a:t>Mozgó vevőnél</a:t>
            </a:r>
            <a:r>
              <a:rPr b="0" lang="hu-HU" sz="1600" spc="-1" strike="noStrike">
                <a:solidFill>
                  <a:srgbClr val="99cc00"/>
                </a:solidFill>
                <a:latin typeface="Arial"/>
              </a:rPr>
              <a:t> megfelelő fogadóegység és  feldolgozó szoftver a vezérlő egységbe valamint OTF inicializálás szoftveres megold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Előny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Azonnali ellenőrzés a ponthibák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Rövid mérési id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Lehetőség geodéziai pontosságú kitűzés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760680" y="457200"/>
            <a:ext cx="239040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yományos R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990720"/>
            <a:ext cx="5569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: OGSH pont, saját bázis, rádió/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3560" y="1523880"/>
            <a:ext cx="25336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rés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556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59600" y="5334120"/>
            <a:ext cx="35928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olgozás típusa:valós idej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5800" y="5943600"/>
            <a:ext cx="647532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zformáció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ális/valós idej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553080" y="4800600"/>
            <a:ext cx="304920" cy="609120"/>
            <a:chOff x="6553080" y="4800600"/>
            <a:chExt cx="304920" cy="609120"/>
          </a:xfrm>
        </p:grpSpPr>
        <p:sp>
          <p:nvSpPr>
            <p:cNvPr id="612" name=""/>
            <p:cNvSpPr/>
            <p:nvPr/>
          </p:nvSpPr>
          <p:spPr>
            <a:xfrm>
              <a:off x="6590160" y="4800600"/>
              <a:ext cx="133920" cy="7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34800" y="4879800"/>
              <a:ext cx="0" cy="52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553080" y="4955040"/>
              <a:ext cx="304920" cy="198720"/>
            </a:xfrm>
            <a:custGeom>
              <a:avLst/>
              <a:gdLst/>
              <a:ahLst/>
              <a:rect l="l" t="t" r="r" b="b"/>
              <a:pathLst>
                <a:path w="328" h="360">
                  <a:moveTo>
                    <a:pt x="88" y="0"/>
                  </a:moveTo>
                  <a:cubicBezTo>
                    <a:pt x="44" y="156"/>
                    <a:pt x="0" y="312"/>
                    <a:pt x="40" y="336"/>
                  </a:cubicBezTo>
                  <a:cubicBezTo>
                    <a:pt x="80" y="360"/>
                    <a:pt x="272" y="152"/>
                    <a:pt x="328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634800" y="5193720"/>
              <a:ext cx="178200" cy="21168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0" y="0"/>
                  </a:moveTo>
                  <a:cubicBezTo>
                    <a:pt x="56" y="40"/>
                    <a:pt x="112" y="80"/>
                    <a:pt x="144" y="144"/>
                  </a:cubicBezTo>
                  <a:cubicBezTo>
                    <a:pt x="176" y="208"/>
                    <a:pt x="184" y="336"/>
                    <a:pt x="192" y="38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6781680" y="4343400"/>
            <a:ext cx="152280" cy="990720"/>
            <a:chOff x="6781680" y="4343400"/>
            <a:chExt cx="152280" cy="990720"/>
          </a:xfrm>
        </p:grpSpPr>
        <p:sp>
          <p:nvSpPr>
            <p:cNvPr id="617" name=""/>
            <p:cNvSpPr/>
            <p:nvPr/>
          </p:nvSpPr>
          <p:spPr>
            <a:xfrm>
              <a:off x="6781680" y="4343400"/>
              <a:ext cx="152280" cy="90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57640" y="4419720"/>
              <a:ext cx="0" cy="914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21320" y="27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25920" y="4343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"/>
          <p:cNvCxnSpPr>
            <a:endCxn id="620" idx="2"/>
          </p:cNvCxnSpPr>
          <p:nvPr/>
        </p:nvCxnSpPr>
        <p:spPr>
          <a:xfrm>
            <a:off x="3096720" y="3695760"/>
            <a:ext cx="3685320" cy="171504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endCxn id="621" idx="0"/>
          </p:cNvCxnSpPr>
          <p:nvPr/>
        </p:nvCxnSpPr>
        <p:spPr>
          <a:xfrm flipH="1">
            <a:off x="2208960" y="3695760"/>
            <a:ext cx="888120" cy="9532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endCxn id="619" idx="2"/>
          </p:cNvCxnSpPr>
          <p:nvPr/>
        </p:nvCxnSpPr>
        <p:spPr>
          <a:xfrm flipV="1">
            <a:off x="3124080" y="3657240"/>
            <a:ext cx="4115520" cy="388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28" idx="6"/>
          </p:cNvCxnSpPr>
          <p:nvPr/>
        </p:nvCxnSpPr>
        <p:spPr>
          <a:xfrm>
            <a:off x="3232080" y="3246480"/>
            <a:ext cx="3626640" cy="1141920"/>
          </a:xfrm>
          <a:prstGeom prst="straightConnector1">
            <a:avLst/>
          </a:prstGeom>
          <a:ln w="38160">
            <a:solidFill>
              <a:srgbClr val="bbe0e3"/>
            </a:solidFill>
            <a:prstDash val="sysDot"/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7011720" y="525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363760" y="4648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391520" y="3581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971800" y="3200400"/>
            <a:ext cx="304560" cy="456840"/>
            <a:chOff x="2971800" y="3200400"/>
            <a:chExt cx="304560" cy="456840"/>
          </a:xfrm>
        </p:grpSpPr>
        <p:sp>
          <p:nvSpPr>
            <p:cNvPr id="633" name=""/>
            <p:cNvSpPr/>
            <p:nvPr/>
          </p:nvSpPr>
          <p:spPr>
            <a:xfrm flipV="1">
              <a:off x="2971800" y="3286080"/>
              <a:ext cx="142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43520" y="329184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32640" y="3200400"/>
              <a:ext cx="19944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971800" y="3581280"/>
            <a:ext cx="304920" cy="228600"/>
          </a:xfrm>
          <a:custGeom>
            <a:avLst/>
            <a:gdLst>
              <a:gd name="textAreaLeft" fmla="*/ 125640 w 304920"/>
              <a:gd name="textAreaRight" fmla="*/ 179280 w 30492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56360" y="457200"/>
            <a:ext cx="447372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yományos RTK helyi rendszer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8160" y="990720"/>
            <a:ext cx="41018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: új pont (ideális hely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63560" y="1523880"/>
            <a:ext cx="25336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rés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76520" y="556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59600" y="5334120"/>
            <a:ext cx="35928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olgozás típusa:valós idej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5943600"/>
            <a:ext cx="40384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zformáció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á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553080" y="4800600"/>
            <a:ext cx="304920" cy="609120"/>
            <a:chOff x="6553080" y="4800600"/>
            <a:chExt cx="304920" cy="609120"/>
          </a:xfrm>
        </p:grpSpPr>
        <p:sp>
          <p:nvSpPr>
            <p:cNvPr id="643" name=""/>
            <p:cNvSpPr/>
            <p:nvPr/>
          </p:nvSpPr>
          <p:spPr>
            <a:xfrm>
              <a:off x="6590160" y="4800600"/>
              <a:ext cx="133920" cy="7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34800" y="4879800"/>
              <a:ext cx="0" cy="52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53080" y="4955040"/>
              <a:ext cx="304920" cy="198720"/>
            </a:xfrm>
            <a:custGeom>
              <a:avLst/>
              <a:gdLst/>
              <a:ahLst/>
              <a:rect l="l" t="t" r="r" b="b"/>
              <a:pathLst>
                <a:path w="328" h="360">
                  <a:moveTo>
                    <a:pt x="88" y="0"/>
                  </a:moveTo>
                  <a:cubicBezTo>
                    <a:pt x="44" y="156"/>
                    <a:pt x="0" y="312"/>
                    <a:pt x="40" y="336"/>
                  </a:cubicBezTo>
                  <a:cubicBezTo>
                    <a:pt x="80" y="360"/>
                    <a:pt x="272" y="152"/>
                    <a:pt x="328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34800" y="5193720"/>
              <a:ext cx="178200" cy="21168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0" y="0"/>
                  </a:moveTo>
                  <a:cubicBezTo>
                    <a:pt x="56" y="40"/>
                    <a:pt x="112" y="80"/>
                    <a:pt x="144" y="144"/>
                  </a:cubicBezTo>
                  <a:cubicBezTo>
                    <a:pt x="176" y="208"/>
                    <a:pt x="184" y="336"/>
                    <a:pt x="192" y="38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781680" y="4343400"/>
            <a:ext cx="152280" cy="990720"/>
            <a:chOff x="6781680" y="4343400"/>
            <a:chExt cx="152280" cy="990720"/>
          </a:xfrm>
        </p:grpSpPr>
        <p:sp>
          <p:nvSpPr>
            <p:cNvPr id="648" name=""/>
            <p:cNvSpPr/>
            <p:nvPr/>
          </p:nvSpPr>
          <p:spPr>
            <a:xfrm>
              <a:off x="6781680" y="4343400"/>
              <a:ext cx="152280" cy="90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57640" y="4419720"/>
              <a:ext cx="0" cy="914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33720" y="4648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21320" y="27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325920" y="4343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5" name=""/>
          <p:cNvCxnSpPr>
            <a:endCxn id="651" idx="2"/>
          </p:cNvCxnSpPr>
          <p:nvPr/>
        </p:nvCxnSpPr>
        <p:spPr>
          <a:xfrm>
            <a:off x="3096720" y="3695760"/>
            <a:ext cx="3685320" cy="171504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endCxn id="652" idx="0"/>
          </p:cNvCxnSpPr>
          <p:nvPr/>
        </p:nvCxnSpPr>
        <p:spPr>
          <a:xfrm flipH="1">
            <a:off x="2208960" y="3695760"/>
            <a:ext cx="888120" cy="9532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endCxn id="650" idx="2"/>
          </p:cNvCxnSpPr>
          <p:nvPr/>
        </p:nvCxnSpPr>
        <p:spPr>
          <a:xfrm flipV="1">
            <a:off x="3096720" y="3657240"/>
            <a:ext cx="4142520" cy="388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9" idx="6"/>
          </p:cNvCxnSpPr>
          <p:nvPr/>
        </p:nvCxnSpPr>
        <p:spPr>
          <a:xfrm>
            <a:off x="3232080" y="3246480"/>
            <a:ext cx="3626640" cy="1141920"/>
          </a:xfrm>
          <a:prstGeom prst="straightConnector1">
            <a:avLst/>
          </a:prstGeom>
          <a:ln w="38160">
            <a:solidFill>
              <a:srgbClr val="bbe0e3"/>
            </a:solidFill>
            <a:prstDash val="sysDot"/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7011720" y="5257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363760" y="4648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391520" y="3581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971800" y="3200400"/>
            <a:ext cx="304560" cy="456840"/>
            <a:chOff x="2971800" y="3200400"/>
            <a:chExt cx="304560" cy="456840"/>
          </a:xfrm>
        </p:grpSpPr>
        <p:sp>
          <p:nvSpPr>
            <p:cNvPr id="664" name=""/>
            <p:cNvSpPr/>
            <p:nvPr/>
          </p:nvSpPr>
          <p:spPr>
            <a:xfrm flipV="1">
              <a:off x="2971800" y="3286080"/>
              <a:ext cx="142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43520" y="3291840"/>
              <a:ext cx="1328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32640" y="3200400"/>
              <a:ext cx="199440" cy="91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676520" y="2133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15200" y="1371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5486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48120" y="36576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"/>
          <p:cNvCxnSpPr>
            <a:stCxn id="669" idx="1"/>
            <a:endCxn id="666" idx="5"/>
          </p:cNvCxnSpPr>
          <p:nvPr/>
        </p:nvCxnSpPr>
        <p:spPr>
          <a:xfrm flipH="1" flipV="1">
            <a:off x="1806120" y="2263320"/>
            <a:ext cx="1264320" cy="14169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71" name=""/>
          <p:cNvCxnSpPr>
            <a:stCxn id="669" idx="7"/>
            <a:endCxn id="667" idx="3"/>
          </p:cNvCxnSpPr>
          <p:nvPr/>
        </p:nvCxnSpPr>
        <p:spPr>
          <a:xfrm flipV="1">
            <a:off x="3178080" y="1501560"/>
            <a:ext cx="4159800" cy="21787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672" name=""/>
          <p:cNvCxnSpPr>
            <a:stCxn id="669" idx="5"/>
            <a:endCxn id="668" idx="1"/>
          </p:cNvCxnSpPr>
          <p:nvPr/>
        </p:nvCxnSpPr>
        <p:spPr>
          <a:xfrm>
            <a:off x="3177720" y="3787920"/>
            <a:ext cx="1569240" cy="17215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5562720" y="6400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62720" y="60958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43600" y="60199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Új 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936400" y="632448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appont a helyi rendszer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520" y="50292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69" idx="2"/>
            <a:endCxn id="677" idx="6"/>
          </p:cNvCxnSpPr>
          <p:nvPr/>
        </p:nvCxnSpPr>
        <p:spPr>
          <a:xfrm flipH="1">
            <a:off x="685440" y="3733920"/>
            <a:ext cx="2363040" cy="137232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753120" y="457200"/>
            <a:ext cx="591552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etlen permanens állomásra támaszkodó mér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3120" y="990720"/>
            <a:ext cx="63680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: egyetlen bázisállomás Interneten kereszt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59600" y="3886200"/>
            <a:ext cx="3624840" cy="1313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érés típusa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ors stat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op an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nemat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76520" y="556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58160" y="5334120"/>
            <a:ext cx="46962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olgozás típusa:valós idejű/ utól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5943600"/>
            <a:ext cx="647532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zformáció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zeti/lokális/valós idej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6553080" y="4800600"/>
            <a:ext cx="304920" cy="609120"/>
            <a:chOff x="6553080" y="4800600"/>
            <a:chExt cx="304920" cy="609120"/>
          </a:xfrm>
        </p:grpSpPr>
        <p:sp>
          <p:nvSpPr>
            <p:cNvPr id="686" name=""/>
            <p:cNvSpPr/>
            <p:nvPr/>
          </p:nvSpPr>
          <p:spPr>
            <a:xfrm>
              <a:off x="6590160" y="4800600"/>
              <a:ext cx="133920" cy="7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634800" y="4879800"/>
              <a:ext cx="0" cy="52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53080" y="4955040"/>
              <a:ext cx="304920" cy="198720"/>
            </a:xfrm>
            <a:custGeom>
              <a:avLst/>
              <a:gdLst/>
              <a:ahLst/>
              <a:rect l="l" t="t" r="r" b="b"/>
              <a:pathLst>
                <a:path w="328" h="360">
                  <a:moveTo>
                    <a:pt x="88" y="0"/>
                  </a:moveTo>
                  <a:cubicBezTo>
                    <a:pt x="44" y="156"/>
                    <a:pt x="0" y="312"/>
                    <a:pt x="40" y="336"/>
                  </a:cubicBezTo>
                  <a:cubicBezTo>
                    <a:pt x="80" y="360"/>
                    <a:pt x="272" y="152"/>
                    <a:pt x="328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34800" y="5193720"/>
              <a:ext cx="178200" cy="21168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0" y="0"/>
                  </a:moveTo>
                  <a:cubicBezTo>
                    <a:pt x="56" y="40"/>
                    <a:pt x="112" y="80"/>
                    <a:pt x="144" y="144"/>
                  </a:cubicBezTo>
                  <a:cubicBezTo>
                    <a:pt x="176" y="208"/>
                    <a:pt x="184" y="336"/>
                    <a:pt x="192" y="38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6781680" y="4343400"/>
            <a:ext cx="152280" cy="990720"/>
            <a:chOff x="6781680" y="4343400"/>
            <a:chExt cx="152280" cy="990720"/>
          </a:xfrm>
        </p:grpSpPr>
        <p:sp>
          <p:nvSpPr>
            <p:cNvPr id="691" name=""/>
            <p:cNvSpPr/>
            <p:nvPr/>
          </p:nvSpPr>
          <p:spPr>
            <a:xfrm>
              <a:off x="6781680" y="4343400"/>
              <a:ext cx="152280" cy="90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857640" y="4419720"/>
              <a:ext cx="0" cy="914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229600" y="3809880"/>
            <a:ext cx="533520" cy="533160"/>
            <a:chOff x="8229600" y="3809880"/>
            <a:chExt cx="533520" cy="533160"/>
          </a:xfrm>
        </p:grpSpPr>
        <p:sp>
          <p:nvSpPr>
            <p:cNvPr id="694" name=""/>
            <p:cNvSpPr/>
            <p:nvPr/>
          </p:nvSpPr>
          <p:spPr>
            <a:xfrm>
              <a:off x="8275680" y="4151880"/>
              <a:ext cx="464040" cy="191160"/>
            </a:xfrm>
            <a:custGeom>
              <a:avLst/>
              <a:gdLst>
                <a:gd name="textAreaLeft" fmla="*/ 191160 w 464040"/>
                <a:gd name="textAreaRight" fmla="*/ 272880 w 464040"/>
                <a:gd name="textAreaTop" fmla="*/ 78840 h 191160"/>
                <a:gd name="textAreaBottom" fmla="*/ 11232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29600" y="3809880"/>
              <a:ext cx="533520" cy="19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507160" y="4007520"/>
              <a:ext cx="0" cy="13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computr2"/>
          <p:cNvSpPr/>
          <p:nvPr/>
        </p:nvSpPr>
        <p:spPr>
          <a:xfrm>
            <a:off x="7543800" y="2057400"/>
            <a:ext cx="743040" cy="5144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924680" y="51814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381880" y="63244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Cloud"/>
          <p:cNvSpPr/>
          <p:nvPr/>
        </p:nvSpPr>
        <p:spPr>
          <a:xfrm>
            <a:off x="3467160" y="1600200"/>
            <a:ext cx="2209680" cy="1481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038480" y="1905120"/>
            <a:ext cx="1067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791920" y="3886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325920" y="4343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695" idx="0"/>
            <a:endCxn id="697" idx="10"/>
          </p:cNvCxnSpPr>
          <p:nvPr/>
        </p:nvCxnSpPr>
        <p:spPr>
          <a:xfrm flipH="1" flipV="1">
            <a:off x="7915320" y="2571120"/>
            <a:ext cx="581400" cy="1238760"/>
          </a:xfrm>
          <a:prstGeom prst="straightConnector1">
            <a:avLst/>
          </a:prstGeom>
          <a:ln w="38160">
            <a:solidFill>
              <a:srgbClr val="bbe0e3"/>
            </a:solidFill>
            <a:prstDash val="sysDot"/>
            <a:miter/>
            <a:tailEnd len="med" type="triangle" w="med"/>
          </a:ln>
        </p:spPr>
      </p:cxnSp>
      <p:cxnSp>
        <p:nvCxnSpPr>
          <p:cNvPr id="706" name=""/>
          <p:cNvCxnSpPr>
            <a:stCxn id="694" idx="0"/>
            <a:endCxn id="699" idx="6"/>
          </p:cNvCxnSpPr>
          <p:nvPr/>
        </p:nvCxnSpPr>
        <p:spPr>
          <a:xfrm flipH="1">
            <a:off x="6933960" y="4343040"/>
            <a:ext cx="157392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94" idx="1"/>
            <a:endCxn id="700" idx="0"/>
          </p:cNvCxnSpPr>
          <p:nvPr/>
        </p:nvCxnSpPr>
        <p:spPr>
          <a:xfrm flipH="1">
            <a:off x="8457480" y="4343040"/>
            <a:ext cx="50040" cy="1981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94" idx="2"/>
            <a:endCxn id="698" idx="6"/>
          </p:cNvCxnSpPr>
          <p:nvPr/>
        </p:nvCxnSpPr>
        <p:spPr>
          <a:xfrm flipH="1">
            <a:off x="8076600" y="4343400"/>
            <a:ext cx="430920" cy="9151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97" idx="11"/>
          </p:cNvCxnSpPr>
          <p:nvPr/>
        </p:nvCxnSpPr>
        <p:spPr>
          <a:xfrm flipH="1">
            <a:off x="5790960" y="2195280"/>
            <a:ext cx="1900800" cy="160920"/>
          </a:xfrm>
          <a:prstGeom prst="straightConnector1">
            <a:avLst/>
          </a:prstGeom>
          <a:ln w="38160">
            <a:solidFill>
              <a:srgbClr val="bbe0e3"/>
            </a:solidFill>
            <a:prstDash val="sysDot"/>
            <a:miter/>
            <a:tailEnd len="med" type="triangle" w="med"/>
          </a:ln>
        </p:spPr>
      </p:cxnSp>
      <p:cxnSp>
        <p:nvCxnSpPr>
          <p:cNvPr id="710" name=""/>
          <p:cNvCxnSpPr>
            <a:stCxn id="701" idx="4"/>
            <a:endCxn id="691" idx="0"/>
          </p:cNvCxnSpPr>
          <p:nvPr/>
        </p:nvCxnSpPr>
        <p:spPr>
          <a:xfrm>
            <a:off x="4572000" y="3079800"/>
            <a:ext cx="2286720" cy="1264320"/>
          </a:xfrm>
          <a:prstGeom prst="straightConnector1">
            <a:avLst/>
          </a:prstGeom>
          <a:ln w="38160">
            <a:solidFill>
              <a:srgbClr val="bbe0e3"/>
            </a:solidFill>
            <a:prstDash val="sysDot"/>
            <a:miter/>
            <a:tailEnd len="med" type="triangle" w="med"/>
          </a:ln>
        </p:spPr>
      </p:cxnSp>
      <p:sp>
        <p:nvSpPr>
          <p:cNvPr id="711" name=""/>
          <p:cNvSpPr/>
          <p:nvPr/>
        </p:nvSpPr>
        <p:spPr>
          <a:xfrm>
            <a:off x="853596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11720" y="541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077320" y="5105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467480" y="16765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öz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762120" y="457200"/>
            <a:ext cx="189360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álózatos R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3480" y="990720"/>
            <a:ext cx="59004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: több bázisállomás Interneten kereszt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63560" y="1600200"/>
            <a:ext cx="253368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rés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76520" y="5562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6960" y="5334120"/>
            <a:ext cx="35928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dolgozás típusa:valós idej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480" y="5943600"/>
            <a:ext cx="64756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zformáció típus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zeti/lokális/valós idej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6553080" y="4800600"/>
            <a:ext cx="304920" cy="609120"/>
            <a:chOff x="6553080" y="4800600"/>
            <a:chExt cx="304920" cy="609120"/>
          </a:xfrm>
        </p:grpSpPr>
        <p:sp>
          <p:nvSpPr>
            <p:cNvPr id="722" name=""/>
            <p:cNvSpPr/>
            <p:nvPr/>
          </p:nvSpPr>
          <p:spPr>
            <a:xfrm>
              <a:off x="6590160" y="4800600"/>
              <a:ext cx="133920" cy="7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34800" y="4879800"/>
              <a:ext cx="0" cy="52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53080" y="4955040"/>
              <a:ext cx="304920" cy="198720"/>
            </a:xfrm>
            <a:custGeom>
              <a:avLst/>
              <a:gdLst/>
              <a:ahLst/>
              <a:rect l="l" t="t" r="r" b="b"/>
              <a:pathLst>
                <a:path w="328" h="360">
                  <a:moveTo>
                    <a:pt x="88" y="0"/>
                  </a:moveTo>
                  <a:cubicBezTo>
                    <a:pt x="44" y="156"/>
                    <a:pt x="0" y="312"/>
                    <a:pt x="40" y="336"/>
                  </a:cubicBezTo>
                  <a:cubicBezTo>
                    <a:pt x="80" y="360"/>
                    <a:pt x="272" y="152"/>
                    <a:pt x="328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34800" y="5193720"/>
              <a:ext cx="178200" cy="21168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0" y="0"/>
                  </a:moveTo>
                  <a:cubicBezTo>
                    <a:pt x="56" y="40"/>
                    <a:pt x="112" y="80"/>
                    <a:pt x="144" y="144"/>
                  </a:cubicBezTo>
                  <a:cubicBezTo>
                    <a:pt x="176" y="208"/>
                    <a:pt x="184" y="336"/>
                    <a:pt x="192" y="38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781680" y="4343400"/>
            <a:ext cx="152280" cy="990720"/>
            <a:chOff x="6781680" y="4343400"/>
            <a:chExt cx="152280" cy="990720"/>
          </a:xfrm>
        </p:grpSpPr>
        <p:sp>
          <p:nvSpPr>
            <p:cNvPr id="727" name=""/>
            <p:cNvSpPr/>
            <p:nvPr/>
          </p:nvSpPr>
          <p:spPr>
            <a:xfrm>
              <a:off x="6781680" y="4343400"/>
              <a:ext cx="152280" cy="90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57640" y="4419720"/>
              <a:ext cx="0" cy="914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238880" y="4114800"/>
            <a:ext cx="533520" cy="533160"/>
            <a:chOff x="7238880" y="4114800"/>
            <a:chExt cx="533520" cy="533160"/>
          </a:xfrm>
        </p:grpSpPr>
        <p:sp>
          <p:nvSpPr>
            <p:cNvPr id="730" name=""/>
            <p:cNvSpPr/>
            <p:nvPr/>
          </p:nvSpPr>
          <p:spPr>
            <a:xfrm>
              <a:off x="7284960" y="4456800"/>
              <a:ext cx="464040" cy="191160"/>
            </a:xfrm>
            <a:custGeom>
              <a:avLst/>
              <a:gdLst>
                <a:gd name="textAreaLeft" fmla="*/ 191160 w 464040"/>
                <a:gd name="textAreaRight" fmla="*/ 272880 w 464040"/>
                <a:gd name="textAreaTop" fmla="*/ 78840 h 191160"/>
                <a:gd name="textAreaBottom" fmla="*/ 11232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38880" y="4114800"/>
              <a:ext cx="533520" cy="191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16440" y="4312440"/>
              <a:ext cx="0" cy="13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computr2"/>
          <p:cNvSpPr/>
          <p:nvPr/>
        </p:nvSpPr>
        <p:spPr>
          <a:xfrm>
            <a:off x="1371600" y="2590920"/>
            <a:ext cx="743040" cy="5140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924680" y="51814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381880" y="63244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Cloud"/>
          <p:cNvSpPr/>
          <p:nvPr/>
        </p:nvSpPr>
        <p:spPr>
          <a:xfrm>
            <a:off x="3467160" y="1600200"/>
            <a:ext cx="2209680" cy="1481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038480" y="1905120"/>
            <a:ext cx="1067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460000" y="24382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325920" y="4343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"/>
          <p:cNvCxnSpPr>
            <a:stCxn id="730" idx="0"/>
            <a:endCxn id="735" idx="6"/>
          </p:cNvCxnSpPr>
          <p:nvPr/>
        </p:nvCxnSpPr>
        <p:spPr>
          <a:xfrm flipH="1">
            <a:off x="6933960" y="4648320"/>
            <a:ext cx="583200" cy="7624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730" idx="1"/>
            <a:endCxn id="736" idx="0"/>
          </p:cNvCxnSpPr>
          <p:nvPr/>
        </p:nvCxnSpPr>
        <p:spPr>
          <a:xfrm>
            <a:off x="7516440" y="4648320"/>
            <a:ext cx="942120" cy="16768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endCxn id="734" idx="0"/>
          </p:cNvCxnSpPr>
          <p:nvPr/>
        </p:nvCxnSpPr>
        <p:spPr>
          <a:xfrm>
            <a:off x="7543800" y="4647960"/>
            <a:ext cx="457920" cy="5338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744" name=""/>
          <p:cNvCxnSpPr>
            <a:stCxn id="737" idx="4"/>
          </p:cNvCxnSpPr>
          <p:nvPr/>
        </p:nvCxnSpPr>
        <p:spPr>
          <a:xfrm>
            <a:off x="5675040" y="2341080"/>
            <a:ext cx="1183320" cy="1971000"/>
          </a:xfrm>
          <a:prstGeom prst="straightConnector1">
            <a:avLst/>
          </a:prstGeom>
          <a:ln w="38160">
            <a:solidFill>
              <a:srgbClr val="bbe0e3"/>
            </a:solidFill>
            <a:prstDash val="sysDot"/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853596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11720" y="541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77320" y="51055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22096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özp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8305920" y="2895480"/>
            <a:ext cx="533160" cy="533160"/>
            <a:chOff x="8305920" y="2895480"/>
            <a:chExt cx="533160" cy="533160"/>
          </a:xfrm>
        </p:grpSpPr>
        <p:sp>
          <p:nvSpPr>
            <p:cNvPr id="750" name=""/>
            <p:cNvSpPr/>
            <p:nvPr/>
          </p:nvSpPr>
          <p:spPr>
            <a:xfrm>
              <a:off x="8352000" y="3237480"/>
              <a:ext cx="463680" cy="191160"/>
            </a:xfrm>
            <a:custGeom>
              <a:avLst/>
              <a:gdLst>
                <a:gd name="textAreaLeft" fmla="*/ 191160 w 463680"/>
                <a:gd name="textAreaRight" fmla="*/ 272520 w 463680"/>
                <a:gd name="textAreaTop" fmla="*/ 78840 h 191160"/>
                <a:gd name="textAreaBottom" fmla="*/ 11232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305920" y="2895480"/>
              <a:ext cx="533160" cy="19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583120" y="3093120"/>
              <a:ext cx="0" cy="13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219320" y="4572000"/>
            <a:ext cx="533160" cy="533160"/>
            <a:chOff x="1219320" y="4572000"/>
            <a:chExt cx="533160" cy="533160"/>
          </a:xfrm>
        </p:grpSpPr>
        <p:sp>
          <p:nvSpPr>
            <p:cNvPr id="754" name=""/>
            <p:cNvSpPr/>
            <p:nvPr/>
          </p:nvSpPr>
          <p:spPr>
            <a:xfrm>
              <a:off x="1265400" y="4914000"/>
              <a:ext cx="463680" cy="191160"/>
            </a:xfrm>
            <a:custGeom>
              <a:avLst/>
              <a:gdLst>
                <a:gd name="textAreaLeft" fmla="*/ 191160 w 463680"/>
                <a:gd name="textAreaRight" fmla="*/ 272520 w 463680"/>
                <a:gd name="textAreaTop" fmla="*/ 78840 h 191160"/>
                <a:gd name="textAreaBottom" fmla="*/ 11232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19320" y="4572000"/>
              <a:ext cx="533160" cy="19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96520" y="4769640"/>
              <a:ext cx="0" cy="13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572000" y="4952880"/>
            <a:ext cx="533520" cy="533160"/>
            <a:chOff x="4572000" y="4952880"/>
            <a:chExt cx="533520" cy="533160"/>
          </a:xfrm>
        </p:grpSpPr>
        <p:sp>
          <p:nvSpPr>
            <p:cNvPr id="758" name=""/>
            <p:cNvSpPr/>
            <p:nvPr/>
          </p:nvSpPr>
          <p:spPr>
            <a:xfrm>
              <a:off x="4618080" y="5294880"/>
              <a:ext cx="464040" cy="191160"/>
            </a:xfrm>
            <a:custGeom>
              <a:avLst/>
              <a:gdLst>
                <a:gd name="textAreaLeft" fmla="*/ 191160 w 464040"/>
                <a:gd name="textAreaRight" fmla="*/ 272880 w 464040"/>
                <a:gd name="textAreaTop" fmla="*/ 78840 h 191160"/>
                <a:gd name="textAreaBottom" fmla="*/ 112320 h 1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72000" y="4952880"/>
              <a:ext cx="533520" cy="191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49560" y="5150520"/>
              <a:ext cx="0" cy="13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1" name=""/>
          <p:cNvCxnSpPr>
            <a:stCxn id="751" idx="0"/>
            <a:endCxn id="733" idx="10"/>
          </p:cNvCxnSpPr>
          <p:nvPr/>
        </p:nvCxnSpPr>
        <p:spPr>
          <a:xfrm flipH="1">
            <a:off x="1742400" y="2895480"/>
            <a:ext cx="6830280" cy="210240"/>
          </a:xfrm>
          <a:prstGeom prst="straightConnector1">
            <a:avLst/>
          </a:prstGeom>
          <a:ln w="38160">
            <a:solidFill>
              <a:srgbClr val="bbe0e3"/>
            </a:solidFill>
            <a:prstDash val="sysDot"/>
            <a:miter/>
            <a:tailEnd len="med" type="triangle" w="med"/>
          </a:ln>
        </p:spPr>
      </p:cxnSp>
      <p:cxnSp>
        <p:nvCxnSpPr>
          <p:cNvPr id="762" name=""/>
          <p:cNvCxnSpPr>
            <a:stCxn id="759" idx="0"/>
            <a:endCxn id="733" idx="11"/>
          </p:cNvCxnSpPr>
          <p:nvPr/>
        </p:nvCxnSpPr>
        <p:spPr>
          <a:xfrm flipH="1" flipV="1">
            <a:off x="1742400" y="3104280"/>
            <a:ext cx="3096360" cy="1848600"/>
          </a:xfrm>
          <a:prstGeom prst="straightConnector1">
            <a:avLst/>
          </a:prstGeom>
          <a:ln w="38160">
            <a:solidFill>
              <a:srgbClr val="bbe0e3"/>
            </a:solidFill>
            <a:prstDash val="sysDot"/>
            <a:miter/>
            <a:tailEnd len="med" type="triangle" w="med"/>
          </a:ln>
        </p:spPr>
      </p:cxnSp>
      <p:cxnSp>
        <p:nvCxnSpPr>
          <p:cNvPr id="763" name=""/>
          <p:cNvCxnSpPr>
            <a:stCxn id="755" idx="0"/>
            <a:endCxn id="733" idx="12"/>
          </p:cNvCxnSpPr>
          <p:nvPr/>
        </p:nvCxnSpPr>
        <p:spPr>
          <a:xfrm flipV="1">
            <a:off x="1486080" y="3104280"/>
            <a:ext cx="257760" cy="1467720"/>
          </a:xfrm>
          <a:prstGeom prst="straightConnector1">
            <a:avLst/>
          </a:prstGeom>
          <a:ln w="38160">
            <a:solidFill>
              <a:srgbClr val="bbe0e3"/>
            </a:solidFill>
            <a:prstDash val="sysDot"/>
            <a:miter/>
            <a:tailEnd len="med" type="triangle" w="med"/>
          </a:ln>
        </p:spPr>
      </p:cxnSp>
      <p:cxnSp>
        <p:nvCxnSpPr>
          <p:cNvPr id="764" name=""/>
          <p:cNvCxnSpPr>
            <a:stCxn id="733" idx="13"/>
            <a:endCxn id="737" idx="5"/>
          </p:cNvCxnSpPr>
          <p:nvPr/>
        </p:nvCxnSpPr>
        <p:spPr>
          <a:xfrm flipV="1">
            <a:off x="1967040" y="2341080"/>
            <a:ext cx="1506960" cy="388080"/>
          </a:xfrm>
          <a:prstGeom prst="straightConnector1">
            <a:avLst/>
          </a:prstGeom>
          <a:ln w="38160">
            <a:solidFill>
              <a:srgbClr val="bbe0e3"/>
            </a:solidFill>
            <a:prstDash val="sysDot"/>
            <a:miter/>
            <a:tailEnd len="med" type="triangle" w="med"/>
          </a:ln>
        </p:spPr>
      </p:cxnSp>
      <p:sp>
        <p:nvSpPr>
          <p:cNvPr id="765" name=""/>
          <p:cNvSpPr/>
          <p:nvPr/>
        </p:nvSpPr>
        <p:spPr>
          <a:xfrm>
            <a:off x="1678320" y="41911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878720" y="44956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850880" y="41148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öszönöm a figyelmü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440" y="-32688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kierjedt cefre várható szeszhozam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1143000" y="304920"/>
            <a:ext cx="6246720" cy="5744880"/>
            <a:chOff x="1143000" y="304920"/>
            <a:chExt cx="6246720" cy="5744880"/>
          </a:xfrm>
        </p:grpSpPr>
        <p:grpSp>
          <p:nvGrpSpPr>
            <p:cNvPr id="771" name=""/>
            <p:cNvGrpSpPr/>
            <p:nvPr/>
          </p:nvGrpSpPr>
          <p:grpSpPr>
            <a:xfrm>
              <a:off x="1146240" y="307800"/>
              <a:ext cx="6240600" cy="5738040"/>
              <a:chOff x="1146240" y="307800"/>
              <a:chExt cx="6240600" cy="573804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1146240" y="307800"/>
                <a:ext cx="1595520" cy="823680"/>
                <a:chOff x="1146240" y="307800"/>
                <a:chExt cx="1595520" cy="82368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1214640" y="307800"/>
                  <a:ext cx="145872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Gyümölcsalapanyag 100 kg (100 l szőlőbor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146240" y="307800"/>
                  <a:ext cx="1595520" cy="82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741760" y="307800"/>
                <a:ext cx="2252520" cy="823680"/>
                <a:chOff x="2741760" y="307800"/>
                <a:chExt cx="2252520" cy="82368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2809800" y="307800"/>
                  <a:ext cx="211644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Gyümölcspálinka, borpárlat lit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741760" y="307800"/>
                  <a:ext cx="2252520" cy="82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994280" y="307800"/>
                <a:ext cx="2392560" cy="823680"/>
                <a:chOff x="4994280" y="307800"/>
                <a:chExt cx="2392560" cy="82368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5062680" y="307800"/>
                  <a:ext cx="225576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ngedélyezett maximális kihoza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lf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994280" y="307800"/>
                  <a:ext cx="2392560" cy="82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1146240" y="1131480"/>
                <a:ext cx="1595520" cy="671040"/>
                <a:chOff x="1146240" y="1131480"/>
                <a:chExt cx="1595520" cy="6710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1214640" y="1131480"/>
                  <a:ext cx="14587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odza, erdei gyümölc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146240" y="1131480"/>
                  <a:ext cx="159552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2741760" y="1131480"/>
                <a:ext cx="2252520" cy="671040"/>
                <a:chOff x="2741760" y="1131480"/>
                <a:chExt cx="2252520" cy="67104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2809800" y="1131480"/>
                  <a:ext cx="211644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2741760" y="1131480"/>
                  <a:ext cx="225252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4994280" y="1131480"/>
                <a:ext cx="2392560" cy="671040"/>
                <a:chOff x="4994280" y="1131480"/>
                <a:chExt cx="2392560" cy="67104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5062680" y="1131480"/>
                  <a:ext cx="2255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994280" y="1131480"/>
                  <a:ext cx="239256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1146240" y="1802880"/>
                <a:ext cx="1595520" cy="671040"/>
                <a:chOff x="1146240" y="1802880"/>
                <a:chExt cx="1595520" cy="6710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1214640" y="1802880"/>
                  <a:ext cx="145872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seresznye, őszibarack,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146240" y="1802880"/>
                  <a:ext cx="159552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741760" y="1802880"/>
                <a:ext cx="2252520" cy="671040"/>
                <a:chOff x="2741760" y="1802880"/>
                <a:chExt cx="2252520" cy="67104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2809800" y="1802880"/>
                  <a:ext cx="211644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741760" y="1802880"/>
                  <a:ext cx="225252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994280" y="1802880"/>
                <a:ext cx="2392560" cy="671040"/>
                <a:chOff x="4994280" y="1802880"/>
                <a:chExt cx="2392560" cy="6710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5062680" y="1802880"/>
                  <a:ext cx="2255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94280" y="1802880"/>
                  <a:ext cx="2392560" cy="67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1146240" y="2474280"/>
                <a:ext cx="1595520" cy="518760"/>
                <a:chOff x="1146240" y="2474280"/>
                <a:chExt cx="1595520" cy="51876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1214640" y="2474280"/>
                  <a:ext cx="14587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Körte, birsalma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146240" y="2474280"/>
                  <a:ext cx="15955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2741760" y="2474280"/>
                <a:ext cx="2252520" cy="518760"/>
                <a:chOff x="2741760" y="2474280"/>
                <a:chExt cx="2252520" cy="51876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2809800" y="2474280"/>
                  <a:ext cx="2116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2741760" y="2474280"/>
                  <a:ext cx="22525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4994280" y="2474280"/>
                <a:ext cx="2392560" cy="518760"/>
                <a:chOff x="4994280" y="2474280"/>
                <a:chExt cx="2392560" cy="51876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5062680" y="2474280"/>
                  <a:ext cx="225576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.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994280" y="2474280"/>
                  <a:ext cx="23925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1146240" y="2993400"/>
                <a:ext cx="1595520" cy="518760"/>
                <a:chOff x="1146240" y="2993400"/>
                <a:chExt cx="1595520" cy="51876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214640" y="2993400"/>
                  <a:ext cx="14587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lma, megg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146240" y="2993400"/>
                  <a:ext cx="15955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741760" y="2993400"/>
                <a:ext cx="2252520" cy="518760"/>
                <a:chOff x="2741760" y="2993400"/>
                <a:chExt cx="2252520" cy="51876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2809800" y="2993400"/>
                  <a:ext cx="2116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741760" y="2993400"/>
                  <a:ext cx="22525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4994280" y="2993400"/>
                <a:ext cx="2392560" cy="518760"/>
                <a:chOff x="4994280" y="2993400"/>
                <a:chExt cx="2392560" cy="51876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5062680" y="2993400"/>
                  <a:ext cx="225576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994280" y="2993400"/>
                  <a:ext cx="23925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1146240" y="3512520"/>
                <a:ext cx="1595520" cy="975960"/>
                <a:chOff x="1146240" y="3512520"/>
                <a:chExt cx="1595520" cy="97596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1214640" y="3512520"/>
                  <a:ext cx="1458720" cy="9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árgabarack, vegyes gyümölcs, szőlőtörköly, aszútörköly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146240" y="3512520"/>
                  <a:ext cx="1595520" cy="97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2741760" y="3512520"/>
                <a:ext cx="2252520" cy="975960"/>
                <a:chOff x="2741760" y="3512520"/>
                <a:chExt cx="2252520" cy="97596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2809800" y="3512520"/>
                  <a:ext cx="2116440" cy="9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2741760" y="3512520"/>
                  <a:ext cx="2252520" cy="97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4994280" y="3512520"/>
                <a:ext cx="2392560" cy="975960"/>
                <a:chOff x="4994280" y="3512520"/>
                <a:chExt cx="2392560" cy="97596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5062680" y="3512520"/>
                  <a:ext cx="2255760" cy="9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4994280" y="3512520"/>
                  <a:ext cx="2392560" cy="97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1146240" y="4488840"/>
                <a:ext cx="1595520" cy="518760"/>
                <a:chOff x="1146240" y="4488840"/>
                <a:chExt cx="1595520" cy="51876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1214640" y="4488840"/>
                  <a:ext cx="14587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zilv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146240" y="4488840"/>
                  <a:ext cx="15955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741760" y="4488840"/>
                <a:ext cx="2252520" cy="518760"/>
                <a:chOff x="2741760" y="4488840"/>
                <a:chExt cx="2252520" cy="51876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2809800" y="4488840"/>
                  <a:ext cx="2116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741760" y="4488840"/>
                  <a:ext cx="22525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4994280" y="4488840"/>
                <a:ext cx="2392560" cy="518760"/>
                <a:chOff x="4994280" y="4488840"/>
                <a:chExt cx="2392560" cy="51876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5062680" y="4488840"/>
                  <a:ext cx="225576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994280" y="4488840"/>
                  <a:ext cx="23925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1146240" y="5007960"/>
                <a:ext cx="1595520" cy="518760"/>
                <a:chOff x="1146240" y="5007960"/>
                <a:chExt cx="1595520" cy="51876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1214640" y="5007960"/>
                  <a:ext cx="14587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zőlő, borseprő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146240" y="5007960"/>
                  <a:ext cx="15955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2741760" y="5007960"/>
                <a:ext cx="2252520" cy="518760"/>
                <a:chOff x="2741760" y="5007960"/>
                <a:chExt cx="2252520" cy="5187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2809800" y="5007960"/>
                  <a:ext cx="2116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2741760" y="5007960"/>
                  <a:ext cx="22525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4994280" y="5007960"/>
                <a:ext cx="2392560" cy="518760"/>
                <a:chOff x="4994280" y="5007960"/>
                <a:chExt cx="2392560" cy="51876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5062680" y="5007960"/>
                  <a:ext cx="225576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994280" y="5007960"/>
                  <a:ext cx="23925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1146240" y="5527080"/>
                <a:ext cx="1595520" cy="518760"/>
                <a:chOff x="1146240" y="5527080"/>
                <a:chExt cx="1595520" cy="51876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1214640" y="5527080"/>
                  <a:ext cx="145872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zőlőb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146240" y="5527080"/>
                  <a:ext cx="15955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741760" y="5527080"/>
                <a:ext cx="2252520" cy="518760"/>
                <a:chOff x="2741760" y="5527080"/>
                <a:chExt cx="2252520" cy="51876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2809800" y="5527080"/>
                  <a:ext cx="2116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741760" y="5527080"/>
                  <a:ext cx="225252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4994280" y="5527080"/>
                <a:ext cx="2392560" cy="518760"/>
                <a:chOff x="4994280" y="5527080"/>
                <a:chExt cx="2392560" cy="51876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5062680" y="5527080"/>
                  <a:ext cx="225576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994280" y="5527080"/>
                  <a:ext cx="2392560" cy="51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"/>
            <p:cNvSpPr/>
            <p:nvPr/>
          </p:nvSpPr>
          <p:spPr>
            <a:xfrm>
              <a:off x="1143000" y="304920"/>
              <a:ext cx="6246720" cy="574488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266760" y="6172200"/>
            <a:ext cx="8763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gjegyzés: 1 hlf = 2liter 50%-os pálin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Magyarországon a cefre cukrozását a törvények tiltják! 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Más országokban, ahol a törvények megengedik, a gyümölcsre jellemző íz- és illatanyagok jelentős vesztesége nélkül,  maximum 5kg/100 liter répacukor adagolását javasolják. 1 kg cukorból mintegy 1.3 liter 50 %-os pálinka nyerhető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859280" y="4365720"/>
                <a:ext cx="359424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56040" y="4797360"/>
                <a:ext cx="367344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859280" y="5229360"/>
                <a:ext cx="364644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3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856040" y="5661000"/>
                <a:ext cx="367344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4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p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8640720" y="4365720"/>
                <a:ext cx="503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c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δ</m:t>
                        </m:r>
                      </m:e>
                    </m:ba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640720" y="4797360"/>
                <a:ext cx="503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c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δ</m:t>
                        </m:r>
                      </m:e>
                    </m:ba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640720" y="5229360"/>
                <a:ext cx="503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c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δ</m:t>
                        </m:r>
                      </m:e>
                    </m:ba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640720" y="5661000"/>
                <a:ext cx="503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c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δ</m:t>
                        </m:r>
                      </m:e>
                    </m:ba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3492360" y="4653000"/>
            <a:ext cx="304920" cy="609120"/>
            <a:chOff x="3492360" y="4653000"/>
            <a:chExt cx="304920" cy="609120"/>
          </a:xfrm>
        </p:grpSpPr>
        <p:sp>
          <p:nvSpPr>
            <p:cNvPr id="124" name=""/>
            <p:cNvSpPr/>
            <p:nvPr/>
          </p:nvSpPr>
          <p:spPr>
            <a:xfrm>
              <a:off x="3529440" y="4653000"/>
              <a:ext cx="133920" cy="7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74080" y="4732200"/>
              <a:ext cx="0" cy="52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2360" y="4807440"/>
              <a:ext cx="304920" cy="198720"/>
            </a:xfrm>
            <a:custGeom>
              <a:avLst/>
              <a:gdLst/>
              <a:ahLst/>
              <a:rect l="l" t="t" r="r" b="b"/>
              <a:pathLst>
                <a:path w="328" h="360">
                  <a:moveTo>
                    <a:pt x="88" y="0"/>
                  </a:moveTo>
                  <a:cubicBezTo>
                    <a:pt x="44" y="156"/>
                    <a:pt x="0" y="312"/>
                    <a:pt x="40" y="336"/>
                  </a:cubicBezTo>
                  <a:cubicBezTo>
                    <a:pt x="80" y="360"/>
                    <a:pt x="272" y="152"/>
                    <a:pt x="328" y="14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74080" y="5046120"/>
              <a:ext cx="178200" cy="211680"/>
            </a:xfrm>
            <a:custGeom>
              <a:avLst/>
              <a:gdLst/>
              <a:ahLst/>
              <a:rect l="l" t="t" r="r" b="b"/>
              <a:pathLst>
                <a:path w="192" h="384">
                  <a:moveTo>
                    <a:pt x="0" y="0"/>
                  </a:moveTo>
                  <a:cubicBezTo>
                    <a:pt x="56" y="40"/>
                    <a:pt x="112" y="80"/>
                    <a:pt x="144" y="144"/>
                  </a:cubicBezTo>
                  <a:cubicBezTo>
                    <a:pt x="176" y="208"/>
                    <a:pt x="184" y="336"/>
                    <a:pt x="192" y="384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708360" y="4797360"/>
            <a:ext cx="1522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16000" y="404640"/>
            <a:ext cx="685440" cy="152280"/>
            <a:chOff x="1116000" y="404640"/>
            <a:chExt cx="685440" cy="152280"/>
          </a:xfrm>
        </p:grpSpPr>
        <p:sp>
          <p:nvSpPr>
            <p:cNvPr id="130" name=""/>
            <p:cNvSpPr/>
            <p:nvPr/>
          </p:nvSpPr>
          <p:spPr>
            <a:xfrm>
              <a:off x="1401480" y="404640"/>
              <a:ext cx="11412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72840" y="404640"/>
              <a:ext cx="22860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16000" y="404640"/>
              <a:ext cx="22824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348000" y="189000"/>
            <a:ext cx="685440" cy="152280"/>
            <a:chOff x="3348000" y="189000"/>
            <a:chExt cx="685440" cy="152280"/>
          </a:xfrm>
        </p:grpSpPr>
        <p:sp>
          <p:nvSpPr>
            <p:cNvPr id="134" name=""/>
            <p:cNvSpPr/>
            <p:nvPr/>
          </p:nvSpPr>
          <p:spPr>
            <a:xfrm>
              <a:off x="3633480" y="189000"/>
              <a:ext cx="11412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4840" y="189000"/>
              <a:ext cx="22860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48000" y="189000"/>
              <a:ext cx="22824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885080" y="836640"/>
            <a:ext cx="685440" cy="152280"/>
            <a:chOff x="7885080" y="836640"/>
            <a:chExt cx="685440" cy="152280"/>
          </a:xfrm>
        </p:grpSpPr>
        <p:sp>
          <p:nvSpPr>
            <p:cNvPr id="138" name=""/>
            <p:cNvSpPr/>
            <p:nvPr/>
          </p:nvSpPr>
          <p:spPr>
            <a:xfrm>
              <a:off x="8170560" y="836640"/>
              <a:ext cx="11412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41920" y="836640"/>
              <a:ext cx="22860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85080" y="836640"/>
              <a:ext cx="22824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638680" y="1219320"/>
            <a:ext cx="685440" cy="152280"/>
            <a:chOff x="5638680" y="1219320"/>
            <a:chExt cx="685440" cy="152280"/>
          </a:xfrm>
        </p:grpSpPr>
        <p:sp>
          <p:nvSpPr>
            <p:cNvPr id="142" name=""/>
            <p:cNvSpPr/>
            <p:nvPr/>
          </p:nvSpPr>
          <p:spPr>
            <a:xfrm>
              <a:off x="5924160" y="1219320"/>
              <a:ext cx="11412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520" y="1219320"/>
              <a:ext cx="22860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8680" y="1219320"/>
              <a:ext cx="22824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"/>
          <p:cNvCxnSpPr>
            <a:stCxn id="134" idx="2"/>
            <a:endCxn id="128" idx="0"/>
          </p:cNvCxnSpPr>
          <p:nvPr/>
        </p:nvCxnSpPr>
        <p:spPr>
          <a:xfrm>
            <a:off x="3691080" y="341280"/>
            <a:ext cx="94320" cy="4456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6" name=""/>
          <p:cNvCxnSpPr>
            <a:stCxn id="142" idx="2"/>
            <a:endCxn id="128" idx="0"/>
          </p:cNvCxnSpPr>
          <p:nvPr/>
        </p:nvCxnSpPr>
        <p:spPr>
          <a:xfrm flipH="1">
            <a:off x="3783960" y="1371600"/>
            <a:ext cx="2197800" cy="342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7" name=""/>
          <p:cNvCxnSpPr>
            <a:stCxn id="138" idx="2"/>
            <a:endCxn id="128" idx="0"/>
          </p:cNvCxnSpPr>
          <p:nvPr/>
        </p:nvCxnSpPr>
        <p:spPr>
          <a:xfrm flipH="1">
            <a:off x="3783960" y="988560"/>
            <a:ext cx="4444200" cy="3809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8" name=""/>
          <p:cNvCxnSpPr>
            <a:stCxn id="130" idx="2"/>
            <a:endCxn id="128" idx="0"/>
          </p:cNvCxnSpPr>
          <p:nvPr/>
        </p:nvCxnSpPr>
        <p:spPr>
          <a:xfrm>
            <a:off x="1459080" y="557280"/>
            <a:ext cx="2326320" cy="4240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ódtávolság és fázistávol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9999"/>
                </a:solidFill>
                <a:latin typeface="Arial"/>
              </a:rPr>
              <a:t>Kódmé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=c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+d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ó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io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trop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pál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/A –kóddal = 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-kóddal      = 3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vevő, navigációs célra, abszolút helymeghatár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imum 4 hold egyidejű észle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Fázismé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= n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1 és L2 vivőhullám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volság pontossága= 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evő pár, geodéziai cél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imum 5 hold egyidejű észlelése, relatív helymeghatár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/>
          <p:nvPr/>
        </p:nvCxnSpPr>
        <p:spPr>
          <a:xfrm>
            <a:off x="6876720" y="4941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702000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419280" y="5229360"/>
            <a:ext cx="360720" cy="647280"/>
            <a:chOff x="3419280" y="5229360"/>
            <a:chExt cx="360720" cy="647280"/>
          </a:xfrm>
        </p:grpSpPr>
        <p:sp>
          <p:nvSpPr>
            <p:cNvPr id="154" name=""/>
            <p:cNvSpPr/>
            <p:nvPr/>
          </p:nvSpPr>
          <p:spPr>
            <a:xfrm>
              <a:off x="3635280" y="5445000"/>
              <a:ext cx="144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419280" y="5445000"/>
              <a:ext cx="144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92360" y="5229360"/>
              <a:ext cx="193680" cy="195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659640" y="2421000"/>
            <a:ext cx="1295280" cy="144360"/>
            <a:chOff x="6659640" y="2421000"/>
            <a:chExt cx="1295280" cy="144360"/>
          </a:xfrm>
        </p:grpSpPr>
        <p:sp>
          <p:nvSpPr>
            <p:cNvPr id="158" name=""/>
            <p:cNvSpPr/>
            <p:nvPr/>
          </p:nvSpPr>
          <p:spPr>
            <a:xfrm>
              <a:off x="7234200" y="242100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2421000"/>
              <a:ext cx="50328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2421000"/>
              <a:ext cx="4824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 rot="19376400">
            <a:off x="3284640" y="3881520"/>
            <a:ext cx="4464000" cy="73080"/>
          </a:xfrm>
          <a:custGeom>
            <a:avLst/>
            <a:gdLst/>
            <a:ahLst/>
            <a:rect l="l" t="t" r="r" b="b"/>
            <a:pathLst>
              <a:path w="3402" h="98">
                <a:moveTo>
                  <a:pt x="0" y="7"/>
                </a:moveTo>
                <a:cubicBezTo>
                  <a:pt x="45" y="52"/>
                  <a:pt x="91" y="98"/>
                  <a:pt x="136" y="98"/>
                </a:cubicBezTo>
                <a:cubicBezTo>
                  <a:pt x="181" y="98"/>
                  <a:pt x="234" y="7"/>
                  <a:pt x="272" y="7"/>
                </a:cubicBezTo>
                <a:cubicBezTo>
                  <a:pt x="310" y="7"/>
                  <a:pt x="325" y="98"/>
                  <a:pt x="363" y="98"/>
                </a:cubicBezTo>
                <a:cubicBezTo>
                  <a:pt x="401" y="98"/>
                  <a:pt x="454" y="7"/>
                  <a:pt x="499" y="7"/>
                </a:cubicBezTo>
                <a:cubicBezTo>
                  <a:pt x="544" y="7"/>
                  <a:pt x="590" y="98"/>
                  <a:pt x="635" y="98"/>
                </a:cubicBezTo>
                <a:cubicBezTo>
                  <a:pt x="680" y="98"/>
                  <a:pt x="726" y="7"/>
                  <a:pt x="771" y="7"/>
                </a:cubicBezTo>
                <a:cubicBezTo>
                  <a:pt x="816" y="7"/>
                  <a:pt x="862" y="98"/>
                  <a:pt x="907" y="98"/>
                </a:cubicBezTo>
                <a:cubicBezTo>
                  <a:pt x="952" y="98"/>
                  <a:pt x="999" y="7"/>
                  <a:pt x="1044" y="7"/>
                </a:cubicBezTo>
                <a:cubicBezTo>
                  <a:pt x="1089" y="7"/>
                  <a:pt x="1135" y="98"/>
                  <a:pt x="1180" y="98"/>
                </a:cubicBezTo>
                <a:cubicBezTo>
                  <a:pt x="1225" y="98"/>
                  <a:pt x="1271" y="7"/>
                  <a:pt x="1316" y="7"/>
                </a:cubicBezTo>
                <a:cubicBezTo>
                  <a:pt x="1361" y="7"/>
                  <a:pt x="1407" y="98"/>
                  <a:pt x="1452" y="98"/>
                </a:cubicBezTo>
                <a:cubicBezTo>
                  <a:pt x="1497" y="98"/>
                  <a:pt x="1550" y="7"/>
                  <a:pt x="1588" y="7"/>
                </a:cubicBezTo>
                <a:cubicBezTo>
                  <a:pt x="1626" y="7"/>
                  <a:pt x="1641" y="98"/>
                  <a:pt x="1679" y="98"/>
                </a:cubicBezTo>
                <a:cubicBezTo>
                  <a:pt x="1717" y="98"/>
                  <a:pt x="1770" y="7"/>
                  <a:pt x="1815" y="7"/>
                </a:cubicBezTo>
                <a:cubicBezTo>
                  <a:pt x="1860" y="7"/>
                  <a:pt x="1906" y="98"/>
                  <a:pt x="1951" y="98"/>
                </a:cubicBezTo>
                <a:cubicBezTo>
                  <a:pt x="1996" y="98"/>
                  <a:pt x="2042" y="7"/>
                  <a:pt x="2087" y="7"/>
                </a:cubicBezTo>
                <a:cubicBezTo>
                  <a:pt x="2132" y="7"/>
                  <a:pt x="2178" y="98"/>
                  <a:pt x="2223" y="98"/>
                </a:cubicBezTo>
                <a:cubicBezTo>
                  <a:pt x="2268" y="98"/>
                  <a:pt x="2306" y="7"/>
                  <a:pt x="2359" y="7"/>
                </a:cubicBezTo>
                <a:cubicBezTo>
                  <a:pt x="2412" y="7"/>
                  <a:pt x="2487" y="98"/>
                  <a:pt x="2540" y="98"/>
                </a:cubicBezTo>
                <a:cubicBezTo>
                  <a:pt x="2593" y="98"/>
                  <a:pt x="2631" y="7"/>
                  <a:pt x="2676" y="7"/>
                </a:cubicBezTo>
                <a:cubicBezTo>
                  <a:pt x="2721" y="7"/>
                  <a:pt x="2768" y="98"/>
                  <a:pt x="2813" y="98"/>
                </a:cubicBezTo>
                <a:cubicBezTo>
                  <a:pt x="2858" y="98"/>
                  <a:pt x="2904" y="7"/>
                  <a:pt x="2949" y="7"/>
                </a:cubicBezTo>
                <a:cubicBezTo>
                  <a:pt x="2994" y="7"/>
                  <a:pt x="3040" y="98"/>
                  <a:pt x="3085" y="98"/>
                </a:cubicBezTo>
                <a:cubicBezTo>
                  <a:pt x="3130" y="98"/>
                  <a:pt x="3168" y="14"/>
                  <a:pt x="3221" y="7"/>
                </a:cubicBezTo>
                <a:cubicBezTo>
                  <a:pt x="3274" y="0"/>
                  <a:pt x="3387" y="30"/>
                  <a:pt x="3402" y="53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9218000">
            <a:off x="3068640" y="3770280"/>
            <a:ext cx="4129200" cy="216000"/>
          </a:xfrm>
          <a:custGeom>
            <a:avLst/>
            <a:gdLst/>
            <a:ahLst/>
            <a:rect l="l" t="t" r="r" b="b"/>
            <a:pathLst>
              <a:path w="3448" h="136">
                <a:moveTo>
                  <a:pt x="0" y="0"/>
                </a:moveTo>
                <a:lnTo>
                  <a:pt x="46" y="0"/>
                </a:lnTo>
                <a:lnTo>
                  <a:pt x="46" y="91"/>
                </a:lnTo>
                <a:lnTo>
                  <a:pt x="227" y="91"/>
                </a:lnTo>
                <a:lnTo>
                  <a:pt x="227" y="0"/>
                </a:lnTo>
                <a:lnTo>
                  <a:pt x="590" y="0"/>
                </a:lnTo>
                <a:lnTo>
                  <a:pt x="590" y="91"/>
                </a:lnTo>
                <a:lnTo>
                  <a:pt x="635" y="91"/>
                </a:lnTo>
                <a:lnTo>
                  <a:pt x="635" y="0"/>
                </a:lnTo>
                <a:lnTo>
                  <a:pt x="771" y="0"/>
                </a:lnTo>
                <a:lnTo>
                  <a:pt x="771" y="91"/>
                </a:lnTo>
                <a:lnTo>
                  <a:pt x="953" y="91"/>
                </a:lnTo>
                <a:lnTo>
                  <a:pt x="953" y="0"/>
                </a:lnTo>
                <a:lnTo>
                  <a:pt x="1542" y="0"/>
                </a:lnTo>
                <a:lnTo>
                  <a:pt x="1542" y="91"/>
                </a:lnTo>
                <a:lnTo>
                  <a:pt x="1769" y="91"/>
                </a:lnTo>
                <a:lnTo>
                  <a:pt x="1769" y="0"/>
                </a:lnTo>
                <a:lnTo>
                  <a:pt x="1996" y="0"/>
                </a:lnTo>
                <a:lnTo>
                  <a:pt x="1996" y="91"/>
                </a:lnTo>
                <a:lnTo>
                  <a:pt x="2314" y="91"/>
                </a:lnTo>
                <a:lnTo>
                  <a:pt x="2314" y="0"/>
                </a:lnTo>
                <a:lnTo>
                  <a:pt x="2450" y="0"/>
                </a:lnTo>
                <a:lnTo>
                  <a:pt x="2450" y="91"/>
                </a:lnTo>
                <a:lnTo>
                  <a:pt x="2540" y="91"/>
                </a:lnTo>
                <a:lnTo>
                  <a:pt x="2540" y="0"/>
                </a:lnTo>
                <a:lnTo>
                  <a:pt x="2994" y="0"/>
                </a:lnTo>
                <a:lnTo>
                  <a:pt x="2994" y="91"/>
                </a:lnTo>
                <a:lnTo>
                  <a:pt x="3312" y="91"/>
                </a:lnTo>
                <a:lnTo>
                  <a:pt x="3312" y="0"/>
                </a:lnTo>
                <a:lnTo>
                  <a:pt x="3402" y="0"/>
                </a:lnTo>
                <a:lnTo>
                  <a:pt x="3448" y="136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1844640"/>
            <a:ext cx="4033800" cy="1297080"/>
          </a:xfrm>
          <a:custGeom>
            <a:avLst/>
            <a:gdLst/>
            <a:ahLst/>
            <a:rect l="l" t="t" r="r" b="b"/>
            <a:pathLst>
              <a:path w="2541" h="817">
                <a:moveTo>
                  <a:pt x="0" y="0"/>
                </a:moveTo>
                <a:cubicBezTo>
                  <a:pt x="560" y="136"/>
                  <a:pt x="1120" y="272"/>
                  <a:pt x="1543" y="408"/>
                </a:cubicBezTo>
                <a:cubicBezTo>
                  <a:pt x="1966" y="544"/>
                  <a:pt x="2398" y="749"/>
                  <a:pt x="2541" y="8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1844640"/>
            <a:ext cx="3960720" cy="1536840"/>
          </a:xfrm>
          <a:custGeom>
            <a:avLst/>
            <a:gdLst/>
            <a:ahLst/>
            <a:rect l="l" t="t" r="r" b="b"/>
            <a:pathLst>
              <a:path w="2495" h="968">
                <a:moveTo>
                  <a:pt x="0" y="0"/>
                </a:moveTo>
                <a:cubicBezTo>
                  <a:pt x="159" y="121"/>
                  <a:pt x="318" y="242"/>
                  <a:pt x="545" y="272"/>
                </a:cubicBezTo>
                <a:cubicBezTo>
                  <a:pt x="772" y="302"/>
                  <a:pt x="1157" y="84"/>
                  <a:pt x="1361" y="182"/>
                </a:cubicBezTo>
                <a:cubicBezTo>
                  <a:pt x="1565" y="280"/>
                  <a:pt x="1580" y="756"/>
                  <a:pt x="1769" y="862"/>
                </a:cubicBezTo>
                <a:cubicBezTo>
                  <a:pt x="1958" y="968"/>
                  <a:pt x="2412" y="757"/>
                  <a:pt x="2495" y="81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NSS rendszer elem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1720" y="2438280"/>
            <a:ext cx="19530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prendsze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96880" y="2438280"/>
            <a:ext cx="2702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gészítő rendsze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86240" y="2362320"/>
            <a:ext cx="1683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használ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7240" y="1447920"/>
            <a:ext cx="9014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9" idx="2"/>
            <a:endCxn id="166" idx="0"/>
          </p:cNvCxnSpPr>
          <p:nvPr/>
        </p:nvCxnSpPr>
        <p:spPr>
          <a:xfrm flipH="1">
            <a:off x="1507320" y="1844280"/>
            <a:ext cx="3141000" cy="59436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9" idx="2"/>
            <a:endCxn id="167" idx="0"/>
          </p:cNvCxnSpPr>
          <p:nvPr/>
        </p:nvCxnSpPr>
        <p:spPr>
          <a:xfrm>
            <a:off x="4647960" y="1844280"/>
            <a:ext cx="1080" cy="59436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68" idx="0"/>
          </p:cNvCxnSpPr>
          <p:nvPr/>
        </p:nvCxnSpPr>
        <p:spPr>
          <a:xfrm>
            <a:off x="4648320" y="1844640"/>
            <a:ext cx="3280320" cy="51840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240" y="3454560"/>
            <a:ext cx="1168200" cy="3682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hol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2320" y="3478320"/>
            <a:ext cx="971640" cy="33732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zérlő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22760" y="3454560"/>
            <a:ext cx="1168200" cy="3682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űho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2200" y="3454560"/>
            <a:ext cx="674640" cy="3682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öl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560" y="3429000"/>
            <a:ext cx="828720" cy="3988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v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50320" y="3429000"/>
            <a:ext cx="1259640" cy="3682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oftve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04640" y="3429000"/>
            <a:ext cx="1535400" cy="368280"/>
          </a:xfrm>
          <a:prstGeom prst="rect">
            <a:avLst/>
          </a:prstGeom>
          <a:solidFill>
            <a:srgbClr val="ea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ógi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66" idx="2"/>
            <a:endCxn id="173" idx="0"/>
          </p:cNvCxnSpPr>
          <p:nvPr/>
        </p:nvCxnSpPr>
        <p:spPr>
          <a:xfrm flipH="1">
            <a:off x="586800" y="2835360"/>
            <a:ext cx="921240" cy="619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66" idx="2"/>
            <a:endCxn id="174" idx="0"/>
          </p:cNvCxnSpPr>
          <p:nvPr/>
        </p:nvCxnSpPr>
        <p:spPr>
          <a:xfrm>
            <a:off x="1507680" y="2835360"/>
            <a:ext cx="351360" cy="6433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7" idx="2"/>
            <a:endCxn id="175" idx="0"/>
          </p:cNvCxnSpPr>
          <p:nvPr/>
        </p:nvCxnSpPr>
        <p:spPr>
          <a:xfrm flipH="1">
            <a:off x="3406320" y="2835360"/>
            <a:ext cx="1242000" cy="619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7" idx="2"/>
            <a:endCxn id="176" idx="0"/>
          </p:cNvCxnSpPr>
          <p:nvPr/>
        </p:nvCxnSpPr>
        <p:spPr>
          <a:xfrm flipH="1">
            <a:off x="4619160" y="2835360"/>
            <a:ext cx="29520" cy="61992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68" idx="2"/>
            <a:endCxn id="177" idx="0"/>
          </p:cNvCxnSpPr>
          <p:nvPr/>
        </p:nvCxnSpPr>
        <p:spPr>
          <a:xfrm flipH="1">
            <a:off x="5749560" y="2758680"/>
            <a:ext cx="2178720" cy="67068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68" idx="2"/>
            <a:endCxn id="178" idx="0"/>
          </p:cNvCxnSpPr>
          <p:nvPr/>
        </p:nvCxnSpPr>
        <p:spPr>
          <a:xfrm flipH="1">
            <a:off x="6879960" y="2758680"/>
            <a:ext cx="1048320" cy="67068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68" idx="2"/>
            <a:endCxn id="179" idx="0"/>
          </p:cNvCxnSpPr>
          <p:nvPr/>
        </p:nvCxnSpPr>
        <p:spPr>
          <a:xfrm>
            <a:off x="7927560" y="2758680"/>
            <a:ext cx="445320" cy="67068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609480" y="3962520"/>
            <a:ext cx="144792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240" y="4495680"/>
            <a:ext cx="141048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GLON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105520"/>
            <a:ext cx="1447920" cy="398880"/>
          </a:xfrm>
          <a:prstGeom prst="rect">
            <a:avLst/>
          </a:prstGeom>
          <a:solidFill>
            <a:srgbClr val="a1fdc6"/>
          </a:solidFill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GALI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6320" y="5715000"/>
            <a:ext cx="1451880" cy="398880"/>
          </a:xfrm>
          <a:prstGeom prst="rect">
            <a:avLst/>
          </a:prstGeom>
          <a:noFill/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962520"/>
            <a:ext cx="1447920" cy="551160"/>
          </a:xfrm>
          <a:prstGeom prst="rect">
            <a:avLst/>
          </a:prstGeom>
          <a:solidFill>
            <a:srgbClr val="99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G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Európáb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4495680"/>
            <a:ext cx="1447920" cy="551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W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Amerikáb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5105520"/>
            <a:ext cx="1447920" cy="551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Japánb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5715000"/>
            <a:ext cx="1447920" cy="551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G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Indiáb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3962520"/>
            <a:ext cx="1447920" cy="5814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világméret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962520"/>
            <a:ext cx="1447920" cy="398880"/>
          </a:xfrm>
          <a:prstGeom prst="rect">
            <a:avLst/>
          </a:prstGeom>
          <a:solidFill>
            <a:srgbClr val="a1fdc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tik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4495680"/>
            <a:ext cx="1447920" cy="5814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európ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105520"/>
            <a:ext cx="1447920" cy="520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00"/>
                </a:solidFill>
                <a:latin typeface="Arial"/>
              </a:rPr>
              <a:t>GNSS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00"/>
                </a:solidFill>
                <a:latin typeface="Arial"/>
              </a:rPr>
              <a:t>(nemzeti,állam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5715000"/>
            <a:ext cx="1447920" cy="520200"/>
          </a:xfrm>
          <a:prstGeom prst="rect">
            <a:avLst/>
          </a:prstGeom>
          <a:solidFill>
            <a:srgbClr val="a1fdc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00"/>
                </a:solidFill>
                <a:latin typeface="Arial"/>
              </a:rPr>
              <a:t>GeotradeGN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9900"/>
                </a:solidFill>
                <a:latin typeface="Arial"/>
              </a:rPr>
              <a:t>(kereskedelm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5181480"/>
            <a:ext cx="1447920" cy="612000"/>
          </a:xfrm>
          <a:prstGeom prst="rect">
            <a:avLst/>
          </a:prstGeom>
          <a:solidFill>
            <a:srgbClr val="a1fdc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Hagyomány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4572000"/>
            <a:ext cx="14479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Kinemati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6019920"/>
            <a:ext cx="1447920" cy="703800"/>
          </a:xfrm>
          <a:prstGeom prst="rect">
            <a:avLst/>
          </a:prstGeom>
          <a:solidFill>
            <a:srgbClr val="99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Hálózatos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R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3962520"/>
            <a:ext cx="144792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GN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4572000"/>
            <a:ext cx="144792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5105520"/>
            <a:ext cx="144792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L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5638680"/>
            <a:ext cx="1447920" cy="39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962520"/>
            <a:ext cx="331920" cy="11595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21120" y="5257800"/>
            <a:ext cx="328680" cy="13726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6299280"/>
            <a:ext cx="1447920" cy="5511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Arial"/>
              </a:rPr>
              <a:t>Omni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9900"/>
                </a:solidFill>
                <a:latin typeface="Arial"/>
              </a:rPr>
              <a:t>Kerskedelmi, fizető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162080" y="909720"/>
            <a:ext cx="6819840" cy="5038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8960" y="6477120"/>
            <a:ext cx="110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Busics Gy.,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95480" y="900000"/>
            <a:ext cx="6953040" cy="50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65400" y="6459480"/>
            <a:ext cx="110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Busics Gy.,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2680" y="696960"/>
            <a:ext cx="8378640" cy="5464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35440" y="380880"/>
            <a:ext cx="558792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NSSnet permanens állomásai 2008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13:02Z</dcterms:created>
  <dc:creator>MF</dc:creator>
  <dc:description/>
  <dc:language>en-US</dc:language>
  <cp:lastModifiedBy>MF</cp:lastModifiedBy>
  <dcterms:modified xsi:type="dcterms:W3CDTF">2009-03-23T15:31:00Z</dcterms:modified>
  <cp:revision>51</cp:revision>
  <dc:subject/>
  <dc:title>GPS a mérnöki gyakorlatban</dc:title>
</cp:coreProperties>
</file>